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93E-0F68-4875-AC57-E1D7D39F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141-4CE7-47FB-8427-EE15BFC2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5B9-922D-4288-8D23-D6C3C9D1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B20-31E9-43E5-9F66-C9F01BB7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604-B0A4-4960-97E6-1A123ED9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9C9-FA1B-4E75-8614-556E4F7A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C0F-C5A6-428A-BC03-47D97354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E6B-848B-42D7-9D58-010C54B3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FD4-2642-4BE7-9771-BCF19350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4C9-1F07-457F-9755-8AEF9487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EAD4-8E71-49D6-B8F1-4C65F7A1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5F3-38C7-4C7A-B987-FE8D2A52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7AEA-228D-4457-BBD4-F2B580675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15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19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5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5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4.png"/><Relationship Id="rId6" Type="http://schemas.openxmlformats.org/officeDocument/2006/relationships/image" Target="../media/image23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8600" y="5810400"/>
            <a:ext cx="8915400" cy="1047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905120" y="1066680"/>
            <a:ext cx="70488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8915400" cy="1209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302600" y="3802680"/>
            <a:ext cx="1845360" cy="2120040"/>
            <a:chOff x="7302600" y="3802680"/>
            <a:chExt cx="1845360" cy="2120040"/>
          </a:xfrm>
        </p:grpSpPr>
        <p:grpSp>
          <p:nvGrpSpPr>
            <p:cNvPr id="49" name=""/>
            <p:cNvGrpSpPr/>
            <p:nvPr/>
          </p:nvGrpSpPr>
          <p:grpSpPr>
            <a:xfrm>
              <a:off x="7302600" y="4679640"/>
              <a:ext cx="1132560" cy="1243080"/>
              <a:chOff x="7302600" y="4679640"/>
              <a:chExt cx="1132560" cy="124308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7302600" y="4679640"/>
                <a:ext cx="1132560" cy="1243080"/>
                <a:chOff x="7302600" y="4679640"/>
                <a:chExt cx="1132560" cy="1243080"/>
              </a:xfrm>
            </p:grpSpPr>
            <p:sp>
              <p:nvSpPr>
                <p:cNvPr id="51" name=""/>
                <p:cNvSpPr/>
                <p:nvPr/>
              </p:nvSpPr>
              <p:spPr>
                <a:xfrm rot="14123400">
                  <a:off x="7449840" y="4952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rot="14123400">
                  <a:off x="7684200" y="47883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 rot="14123400">
                <a:off x="7385760" y="52880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8089200" y="3807720"/>
              <a:ext cx="1058760" cy="1132920"/>
              <a:chOff x="8089200" y="3807720"/>
              <a:chExt cx="1058760" cy="113292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8089200" y="3807720"/>
                <a:ext cx="1037880" cy="1132920"/>
                <a:chOff x="8089200" y="3807720"/>
                <a:chExt cx="1037880" cy="1132920"/>
              </a:xfrm>
            </p:grpSpPr>
            <p:sp>
              <p:nvSpPr>
                <p:cNvPr id="56" name=""/>
                <p:cNvSpPr/>
                <p:nvPr/>
              </p:nvSpPr>
              <p:spPr>
                <a:xfrm rot="4234800">
                  <a:off x="8192520" y="39362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4234800">
                  <a:off x="8165880" y="43052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 rot="4234800">
                <a:off x="8800920" y="418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 rot="14123400">
              <a:off x="8716320" y="386208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692360" y="4749840"/>
            <a:ext cx="2358720" cy="1141920"/>
            <a:chOff x="1692360" y="4749840"/>
            <a:chExt cx="2358720" cy="1141920"/>
          </a:xfrm>
        </p:grpSpPr>
        <p:grpSp>
          <p:nvGrpSpPr>
            <p:cNvPr id="62" name=""/>
            <p:cNvGrpSpPr/>
            <p:nvPr/>
          </p:nvGrpSpPr>
          <p:grpSpPr>
            <a:xfrm>
              <a:off x="1692360" y="4862520"/>
              <a:ext cx="1127880" cy="1029240"/>
              <a:chOff x="1692360" y="4862520"/>
              <a:chExt cx="1127880" cy="102924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1692360" y="4862520"/>
                <a:ext cx="1127880" cy="1029240"/>
                <a:chOff x="1692360" y="4862520"/>
                <a:chExt cx="1127880" cy="1029240"/>
              </a:xfrm>
            </p:grpSpPr>
            <p:sp>
              <p:nvSpPr>
                <p:cNvPr id="64" name=""/>
                <p:cNvSpPr/>
                <p:nvPr/>
              </p:nvSpPr>
              <p:spPr>
                <a:xfrm rot="17186400">
                  <a:off x="1774440" y="49780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7186400">
                  <a:off x="2194200" y="49932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 rot="17186400">
                <a:off x="1764000" y="50238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768400" y="4749840"/>
              <a:ext cx="1241280" cy="1131840"/>
              <a:chOff x="2768400" y="4749840"/>
              <a:chExt cx="1241280" cy="113184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2768400" y="4749840"/>
                <a:ext cx="1241280" cy="1131840"/>
                <a:chOff x="2768400" y="4749840"/>
                <a:chExt cx="1241280" cy="1131840"/>
              </a:xfrm>
            </p:grpSpPr>
            <p:sp>
              <p:nvSpPr>
                <p:cNvPr id="69" name=""/>
                <p:cNvSpPr/>
                <p:nvPr/>
              </p:nvSpPr>
              <p:spPr>
                <a:xfrm rot="7297200">
                  <a:off x="3031200" y="4916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7297200">
                  <a:off x="2873160" y="50641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 rot="7297200">
                <a:off x="3512520" y="54298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 rot="17186400">
              <a:off x="3709080" y="51620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666880" y="3581280"/>
            <a:ext cx="878040" cy="917280"/>
            <a:chOff x="2666880" y="3581280"/>
            <a:chExt cx="878040" cy="917280"/>
          </a:xfrm>
        </p:grpSpPr>
        <p:sp>
          <p:nvSpPr>
            <p:cNvPr id="75" name=""/>
            <p:cNvSpPr/>
            <p:nvPr/>
          </p:nvSpPr>
          <p:spPr>
            <a:xfrm>
              <a:off x="2666880" y="3581280"/>
              <a:ext cx="838080" cy="797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86200" y="3940200"/>
              <a:ext cx="558720" cy="5583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7913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She’s Rita. I like ………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62284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3400" y="4495680"/>
            <a:ext cx="2084400" cy="73512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749760" y="3683160"/>
            <a:ext cx="2358720" cy="1141920"/>
            <a:chOff x="3749760" y="3683160"/>
            <a:chExt cx="2358720" cy="1141920"/>
          </a:xfrm>
        </p:grpSpPr>
        <p:grpSp>
          <p:nvGrpSpPr>
            <p:cNvPr id="84" name=""/>
            <p:cNvGrpSpPr/>
            <p:nvPr/>
          </p:nvGrpSpPr>
          <p:grpSpPr>
            <a:xfrm>
              <a:off x="3749760" y="3795840"/>
              <a:ext cx="1127880" cy="1029240"/>
              <a:chOff x="3749760" y="3795840"/>
              <a:chExt cx="1127880" cy="102924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3749760" y="3795840"/>
                <a:ext cx="1127880" cy="1029240"/>
                <a:chOff x="3749760" y="3795840"/>
                <a:chExt cx="1127880" cy="1029240"/>
              </a:xfrm>
            </p:grpSpPr>
            <p:sp>
              <p:nvSpPr>
                <p:cNvPr id="86" name=""/>
                <p:cNvSpPr/>
                <p:nvPr/>
              </p:nvSpPr>
              <p:spPr>
                <a:xfrm rot="17186400">
                  <a:off x="3831840" y="391140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7186400">
                  <a:off x="4251600" y="39265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"/>
              <p:cNvSpPr/>
              <p:nvPr/>
            </p:nvSpPr>
            <p:spPr>
              <a:xfrm rot="17186400">
                <a:off x="3821400" y="39571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825800" y="3683160"/>
              <a:ext cx="1241280" cy="1131840"/>
              <a:chOff x="4825800" y="3683160"/>
              <a:chExt cx="1241280" cy="113184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4825800" y="3683160"/>
                <a:ext cx="1241280" cy="1131840"/>
                <a:chOff x="4825800" y="3683160"/>
                <a:chExt cx="1241280" cy="1131840"/>
              </a:xfrm>
            </p:grpSpPr>
            <p:sp>
              <p:nvSpPr>
                <p:cNvPr id="91" name=""/>
                <p:cNvSpPr/>
                <p:nvPr/>
              </p:nvSpPr>
              <p:spPr>
                <a:xfrm rot="7297200">
                  <a:off x="5088600" y="38498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7297200">
                  <a:off x="4930560" y="39974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 rot="7297200">
                <a:off x="5569920" y="43632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 rot="17186400">
              <a:off x="5766480" y="409536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886200" y="525780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0430400">
            <a:off x="4876560" y="2282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430400">
            <a:off x="457200" y="380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430400">
            <a:off x="1523520" y="1218600"/>
            <a:ext cx="106704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2895480"/>
            <a:ext cx="685800" cy="1123920"/>
          </a:xfrm>
          <a:custGeom>
            <a:avLst/>
            <a:gdLst/>
            <a:ahLst/>
            <a:rect l="l" t="t" r="r" b="b"/>
            <a:pathLst>
              <a:path w="727" h="1284">
                <a:moveTo>
                  <a:pt x="467" y="1202"/>
                </a:moveTo>
                <a:cubicBezTo>
                  <a:pt x="455" y="1242"/>
                  <a:pt x="526" y="1236"/>
                  <a:pt x="495" y="1264"/>
                </a:cubicBezTo>
                <a:cubicBezTo>
                  <a:pt x="474" y="1283"/>
                  <a:pt x="451" y="1267"/>
                  <a:pt x="423" y="1264"/>
                </a:cubicBezTo>
                <a:cubicBezTo>
                  <a:pt x="392" y="1243"/>
                  <a:pt x="394" y="1284"/>
                  <a:pt x="373" y="1284"/>
                </a:cubicBezTo>
                <a:cubicBezTo>
                  <a:pt x="356" y="1229"/>
                  <a:pt x="428" y="1085"/>
                  <a:pt x="411" y="1018"/>
                </a:cubicBezTo>
                <a:cubicBezTo>
                  <a:pt x="409" y="960"/>
                  <a:pt x="387" y="933"/>
                  <a:pt x="373" y="914"/>
                </a:cubicBezTo>
                <a:cubicBezTo>
                  <a:pt x="353" y="889"/>
                  <a:pt x="309" y="884"/>
                  <a:pt x="291" y="870"/>
                </a:cubicBezTo>
                <a:cubicBezTo>
                  <a:pt x="273" y="856"/>
                  <a:pt x="274" y="845"/>
                  <a:pt x="263" y="828"/>
                </a:cubicBezTo>
                <a:cubicBezTo>
                  <a:pt x="252" y="811"/>
                  <a:pt x="246" y="796"/>
                  <a:pt x="223" y="766"/>
                </a:cubicBezTo>
                <a:cubicBezTo>
                  <a:pt x="169" y="729"/>
                  <a:pt x="163" y="697"/>
                  <a:pt x="125" y="646"/>
                </a:cubicBezTo>
                <a:cubicBezTo>
                  <a:pt x="110" y="605"/>
                  <a:pt x="20" y="598"/>
                  <a:pt x="5" y="557"/>
                </a:cubicBezTo>
                <a:cubicBezTo>
                  <a:pt x="8" y="529"/>
                  <a:pt x="0" y="496"/>
                  <a:pt x="15" y="472"/>
                </a:cubicBezTo>
                <a:cubicBezTo>
                  <a:pt x="26" y="455"/>
                  <a:pt x="71" y="453"/>
                  <a:pt x="71" y="453"/>
                </a:cubicBezTo>
                <a:cubicBezTo>
                  <a:pt x="81" y="456"/>
                  <a:pt x="95" y="453"/>
                  <a:pt x="100" y="462"/>
                </a:cubicBezTo>
                <a:cubicBezTo>
                  <a:pt x="113" y="485"/>
                  <a:pt x="116" y="572"/>
                  <a:pt x="137" y="604"/>
                </a:cubicBezTo>
                <a:cubicBezTo>
                  <a:pt x="155" y="631"/>
                  <a:pt x="186" y="661"/>
                  <a:pt x="213" y="679"/>
                </a:cubicBezTo>
                <a:cubicBezTo>
                  <a:pt x="219" y="689"/>
                  <a:pt x="224" y="700"/>
                  <a:pt x="232" y="708"/>
                </a:cubicBezTo>
                <a:cubicBezTo>
                  <a:pt x="240" y="716"/>
                  <a:pt x="253" y="718"/>
                  <a:pt x="260" y="727"/>
                </a:cubicBezTo>
                <a:cubicBezTo>
                  <a:pt x="288" y="761"/>
                  <a:pt x="262" y="774"/>
                  <a:pt x="317" y="793"/>
                </a:cubicBezTo>
                <a:cubicBezTo>
                  <a:pt x="301" y="768"/>
                  <a:pt x="286" y="742"/>
                  <a:pt x="270" y="717"/>
                </a:cubicBezTo>
                <a:cubicBezTo>
                  <a:pt x="264" y="707"/>
                  <a:pt x="251" y="689"/>
                  <a:pt x="251" y="689"/>
                </a:cubicBezTo>
                <a:cubicBezTo>
                  <a:pt x="231" y="594"/>
                  <a:pt x="260" y="677"/>
                  <a:pt x="213" y="623"/>
                </a:cubicBezTo>
                <a:cubicBezTo>
                  <a:pt x="198" y="606"/>
                  <a:pt x="175" y="566"/>
                  <a:pt x="175" y="566"/>
                </a:cubicBezTo>
                <a:cubicBezTo>
                  <a:pt x="165" y="535"/>
                  <a:pt x="148" y="511"/>
                  <a:pt x="137" y="481"/>
                </a:cubicBezTo>
                <a:cubicBezTo>
                  <a:pt x="128" y="418"/>
                  <a:pt x="132" y="401"/>
                  <a:pt x="90" y="358"/>
                </a:cubicBezTo>
                <a:cubicBezTo>
                  <a:pt x="84" y="338"/>
                  <a:pt x="67" y="302"/>
                  <a:pt x="90" y="283"/>
                </a:cubicBezTo>
                <a:cubicBezTo>
                  <a:pt x="100" y="275"/>
                  <a:pt x="115" y="289"/>
                  <a:pt x="128" y="292"/>
                </a:cubicBezTo>
                <a:cubicBezTo>
                  <a:pt x="141" y="347"/>
                  <a:pt x="161" y="399"/>
                  <a:pt x="175" y="453"/>
                </a:cubicBezTo>
                <a:cubicBezTo>
                  <a:pt x="182" y="481"/>
                  <a:pt x="176" y="515"/>
                  <a:pt x="194" y="538"/>
                </a:cubicBezTo>
                <a:cubicBezTo>
                  <a:pt x="209" y="558"/>
                  <a:pt x="233" y="568"/>
                  <a:pt x="251" y="585"/>
                </a:cubicBezTo>
                <a:cubicBezTo>
                  <a:pt x="272" y="555"/>
                  <a:pt x="280" y="558"/>
                  <a:pt x="260" y="519"/>
                </a:cubicBezTo>
                <a:cubicBezTo>
                  <a:pt x="250" y="499"/>
                  <a:pt x="222" y="462"/>
                  <a:pt x="222" y="462"/>
                </a:cubicBezTo>
                <a:cubicBezTo>
                  <a:pt x="210" y="424"/>
                  <a:pt x="176" y="357"/>
                  <a:pt x="161" y="328"/>
                </a:cubicBezTo>
                <a:cubicBezTo>
                  <a:pt x="155" y="316"/>
                  <a:pt x="166" y="292"/>
                  <a:pt x="156" y="283"/>
                </a:cubicBezTo>
                <a:cubicBezTo>
                  <a:pt x="142" y="239"/>
                  <a:pt x="114" y="204"/>
                  <a:pt x="100" y="160"/>
                </a:cubicBezTo>
                <a:cubicBezTo>
                  <a:pt x="91" y="127"/>
                  <a:pt x="80" y="103"/>
                  <a:pt x="81" y="84"/>
                </a:cubicBezTo>
                <a:cubicBezTo>
                  <a:pt x="80" y="66"/>
                  <a:pt x="89" y="51"/>
                  <a:pt x="95" y="50"/>
                </a:cubicBezTo>
                <a:cubicBezTo>
                  <a:pt x="97" y="40"/>
                  <a:pt x="116" y="65"/>
                  <a:pt x="118" y="75"/>
                </a:cubicBezTo>
                <a:cubicBezTo>
                  <a:pt x="123" y="100"/>
                  <a:pt x="120" y="127"/>
                  <a:pt x="128" y="151"/>
                </a:cubicBezTo>
                <a:cubicBezTo>
                  <a:pt x="133" y="166"/>
                  <a:pt x="147" y="176"/>
                  <a:pt x="156" y="188"/>
                </a:cubicBezTo>
                <a:cubicBezTo>
                  <a:pt x="182" y="264"/>
                  <a:pt x="168" y="374"/>
                  <a:pt x="241" y="424"/>
                </a:cubicBezTo>
                <a:cubicBezTo>
                  <a:pt x="268" y="324"/>
                  <a:pt x="266" y="232"/>
                  <a:pt x="194" y="160"/>
                </a:cubicBezTo>
                <a:cubicBezTo>
                  <a:pt x="177" y="108"/>
                  <a:pt x="180" y="106"/>
                  <a:pt x="232" y="94"/>
                </a:cubicBezTo>
                <a:cubicBezTo>
                  <a:pt x="269" y="148"/>
                  <a:pt x="239" y="95"/>
                  <a:pt x="260" y="188"/>
                </a:cubicBezTo>
                <a:cubicBezTo>
                  <a:pt x="264" y="208"/>
                  <a:pt x="275" y="225"/>
                  <a:pt x="279" y="245"/>
                </a:cubicBezTo>
                <a:cubicBezTo>
                  <a:pt x="282" y="261"/>
                  <a:pt x="285" y="276"/>
                  <a:pt x="288" y="292"/>
                </a:cubicBezTo>
                <a:cubicBezTo>
                  <a:pt x="295" y="474"/>
                  <a:pt x="293" y="524"/>
                  <a:pt x="326" y="660"/>
                </a:cubicBezTo>
                <a:cubicBezTo>
                  <a:pt x="341" y="550"/>
                  <a:pt x="355" y="488"/>
                  <a:pt x="365" y="392"/>
                </a:cubicBezTo>
                <a:cubicBezTo>
                  <a:pt x="364" y="325"/>
                  <a:pt x="365" y="312"/>
                  <a:pt x="365" y="284"/>
                </a:cubicBezTo>
                <a:cubicBezTo>
                  <a:pt x="372" y="256"/>
                  <a:pt x="400" y="249"/>
                  <a:pt x="409" y="224"/>
                </a:cubicBezTo>
                <a:cubicBezTo>
                  <a:pt x="412" y="199"/>
                  <a:pt x="419" y="163"/>
                  <a:pt x="421" y="132"/>
                </a:cubicBezTo>
                <a:cubicBezTo>
                  <a:pt x="417" y="102"/>
                  <a:pt x="381" y="64"/>
                  <a:pt x="385" y="42"/>
                </a:cubicBezTo>
                <a:cubicBezTo>
                  <a:pt x="391" y="23"/>
                  <a:pt x="422" y="3"/>
                  <a:pt x="443" y="2"/>
                </a:cubicBezTo>
                <a:cubicBezTo>
                  <a:pt x="464" y="1"/>
                  <a:pt x="507" y="0"/>
                  <a:pt x="509" y="38"/>
                </a:cubicBezTo>
                <a:cubicBezTo>
                  <a:pt x="511" y="76"/>
                  <a:pt x="485" y="33"/>
                  <a:pt x="469" y="86"/>
                </a:cubicBezTo>
                <a:cubicBezTo>
                  <a:pt x="453" y="139"/>
                  <a:pt x="422" y="256"/>
                  <a:pt x="411" y="358"/>
                </a:cubicBezTo>
                <a:cubicBezTo>
                  <a:pt x="372" y="484"/>
                  <a:pt x="395" y="504"/>
                  <a:pt x="402" y="698"/>
                </a:cubicBezTo>
                <a:cubicBezTo>
                  <a:pt x="415" y="751"/>
                  <a:pt x="418" y="736"/>
                  <a:pt x="429" y="676"/>
                </a:cubicBezTo>
                <a:cubicBezTo>
                  <a:pt x="440" y="616"/>
                  <a:pt x="458" y="408"/>
                  <a:pt x="468" y="339"/>
                </a:cubicBezTo>
                <a:cubicBezTo>
                  <a:pt x="470" y="313"/>
                  <a:pt x="481" y="289"/>
                  <a:pt x="487" y="264"/>
                </a:cubicBezTo>
                <a:cubicBezTo>
                  <a:pt x="492" y="242"/>
                  <a:pt x="486" y="218"/>
                  <a:pt x="496" y="198"/>
                </a:cubicBezTo>
                <a:cubicBezTo>
                  <a:pt x="500" y="190"/>
                  <a:pt x="550" y="158"/>
                  <a:pt x="562" y="151"/>
                </a:cubicBezTo>
                <a:cubicBezTo>
                  <a:pt x="588" y="202"/>
                  <a:pt x="584" y="224"/>
                  <a:pt x="543" y="264"/>
                </a:cubicBezTo>
                <a:cubicBezTo>
                  <a:pt x="518" y="371"/>
                  <a:pt x="533" y="481"/>
                  <a:pt x="496" y="585"/>
                </a:cubicBezTo>
                <a:cubicBezTo>
                  <a:pt x="499" y="620"/>
                  <a:pt x="493" y="657"/>
                  <a:pt x="506" y="689"/>
                </a:cubicBezTo>
                <a:cubicBezTo>
                  <a:pt x="510" y="700"/>
                  <a:pt x="520" y="671"/>
                  <a:pt x="525" y="660"/>
                </a:cubicBezTo>
                <a:cubicBezTo>
                  <a:pt x="530" y="648"/>
                  <a:pt x="531" y="635"/>
                  <a:pt x="534" y="623"/>
                </a:cubicBezTo>
                <a:cubicBezTo>
                  <a:pt x="541" y="547"/>
                  <a:pt x="534" y="470"/>
                  <a:pt x="591" y="415"/>
                </a:cubicBezTo>
                <a:cubicBezTo>
                  <a:pt x="611" y="310"/>
                  <a:pt x="570" y="340"/>
                  <a:pt x="591" y="282"/>
                </a:cubicBezTo>
                <a:cubicBezTo>
                  <a:pt x="594" y="260"/>
                  <a:pt x="628" y="204"/>
                  <a:pt x="628" y="226"/>
                </a:cubicBezTo>
                <a:cubicBezTo>
                  <a:pt x="627" y="226"/>
                  <a:pt x="687" y="203"/>
                  <a:pt x="701" y="214"/>
                </a:cubicBezTo>
                <a:cubicBezTo>
                  <a:pt x="715" y="225"/>
                  <a:pt x="727" y="263"/>
                  <a:pt x="713" y="292"/>
                </a:cubicBezTo>
                <a:cubicBezTo>
                  <a:pt x="699" y="321"/>
                  <a:pt x="638" y="357"/>
                  <a:pt x="619" y="387"/>
                </a:cubicBezTo>
                <a:cubicBezTo>
                  <a:pt x="616" y="416"/>
                  <a:pt x="605" y="443"/>
                  <a:pt x="600" y="472"/>
                </a:cubicBezTo>
                <a:cubicBezTo>
                  <a:pt x="606" y="557"/>
                  <a:pt x="630" y="717"/>
                  <a:pt x="543" y="774"/>
                </a:cubicBezTo>
                <a:cubicBezTo>
                  <a:pt x="568" y="843"/>
                  <a:pt x="532" y="773"/>
                  <a:pt x="581" y="783"/>
                </a:cubicBezTo>
                <a:cubicBezTo>
                  <a:pt x="592" y="785"/>
                  <a:pt x="594" y="802"/>
                  <a:pt x="600" y="812"/>
                </a:cubicBezTo>
                <a:cubicBezTo>
                  <a:pt x="597" y="828"/>
                  <a:pt x="599" y="845"/>
                  <a:pt x="591" y="859"/>
                </a:cubicBezTo>
                <a:cubicBezTo>
                  <a:pt x="585" y="869"/>
                  <a:pt x="414" y="864"/>
                  <a:pt x="469" y="932"/>
                </a:cubicBezTo>
                <a:cubicBezTo>
                  <a:pt x="456" y="987"/>
                  <a:pt x="472" y="1145"/>
                  <a:pt x="467" y="1202"/>
                </a:cubicBezTo>
                <a:close/>
              </a:path>
            </a:pathLst>
          </a:cu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430400">
            <a:off x="3809880" y="2653920"/>
            <a:ext cx="1841760" cy="184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66760" y="2971800"/>
            <a:ext cx="3390840" cy="2666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4"/>
          <a:stretch/>
        </p:blipFill>
        <p:spPr>
          <a:xfrm>
            <a:off x="228600" y="25146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5"/>
          <a:stretch/>
        </p:blipFill>
        <p:spPr>
          <a:xfrm>
            <a:off x="2419200" y="25909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6"/>
          <a:stretch/>
        </p:blipFill>
        <p:spPr>
          <a:xfrm>
            <a:off x="8362800" y="106668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7"/>
          <a:stretch/>
        </p:blipFill>
        <p:spPr>
          <a:xfrm>
            <a:off x="7924680" y="4572000"/>
            <a:ext cx="1171800" cy="2057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0430400">
            <a:off x="7619760" y="5334120"/>
            <a:ext cx="1149120" cy="114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1209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52280" y="5810400"/>
            <a:ext cx="8915400" cy="1047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302600" y="3802680"/>
            <a:ext cx="1845360" cy="2120040"/>
            <a:chOff x="7302600" y="3802680"/>
            <a:chExt cx="1845360" cy="2120040"/>
          </a:xfrm>
        </p:grpSpPr>
        <p:grpSp>
          <p:nvGrpSpPr>
            <p:cNvPr id="123" name=""/>
            <p:cNvGrpSpPr/>
            <p:nvPr/>
          </p:nvGrpSpPr>
          <p:grpSpPr>
            <a:xfrm>
              <a:off x="7302600" y="4679640"/>
              <a:ext cx="1132560" cy="1243080"/>
              <a:chOff x="7302600" y="4679640"/>
              <a:chExt cx="1132560" cy="12430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7302600" y="4679640"/>
                <a:ext cx="1132560" cy="1243080"/>
                <a:chOff x="7302600" y="4679640"/>
                <a:chExt cx="1132560" cy="1243080"/>
              </a:xfrm>
            </p:grpSpPr>
            <p:sp>
              <p:nvSpPr>
                <p:cNvPr id="125" name=""/>
                <p:cNvSpPr/>
                <p:nvPr/>
              </p:nvSpPr>
              <p:spPr>
                <a:xfrm rot="14123400">
                  <a:off x="7449840" y="4952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4123400">
                  <a:off x="7684200" y="47883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 rot="14123400">
                <a:off x="7385760" y="52880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8089200" y="3807720"/>
              <a:ext cx="1058760" cy="1132920"/>
              <a:chOff x="8089200" y="3807720"/>
              <a:chExt cx="1058760" cy="113292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8089200" y="3807720"/>
                <a:ext cx="1037880" cy="1132920"/>
                <a:chOff x="8089200" y="3807720"/>
                <a:chExt cx="1037880" cy="1132920"/>
              </a:xfrm>
            </p:grpSpPr>
            <p:sp>
              <p:nvSpPr>
                <p:cNvPr id="130" name=""/>
                <p:cNvSpPr/>
                <p:nvPr/>
              </p:nvSpPr>
              <p:spPr>
                <a:xfrm rot="4234800">
                  <a:off x="8192520" y="39362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4234800">
                  <a:off x="8165880" y="43052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 rot="4234800">
                <a:off x="8800920" y="418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 rot="14123400">
              <a:off x="8716320" y="386208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149560" y="4749840"/>
            <a:ext cx="2358720" cy="1141920"/>
            <a:chOff x="2149560" y="4749840"/>
            <a:chExt cx="2358720" cy="1141920"/>
          </a:xfrm>
        </p:grpSpPr>
        <p:grpSp>
          <p:nvGrpSpPr>
            <p:cNvPr id="136" name=""/>
            <p:cNvGrpSpPr/>
            <p:nvPr/>
          </p:nvGrpSpPr>
          <p:grpSpPr>
            <a:xfrm>
              <a:off x="2149560" y="4862520"/>
              <a:ext cx="1127880" cy="1029240"/>
              <a:chOff x="2149560" y="4862520"/>
              <a:chExt cx="1127880" cy="102924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2149560" y="4862520"/>
                <a:ext cx="1127880" cy="1029240"/>
                <a:chOff x="2149560" y="4862520"/>
                <a:chExt cx="1127880" cy="1029240"/>
              </a:xfrm>
            </p:grpSpPr>
            <p:sp>
              <p:nvSpPr>
                <p:cNvPr id="138" name=""/>
                <p:cNvSpPr/>
                <p:nvPr/>
              </p:nvSpPr>
              <p:spPr>
                <a:xfrm rot="17186400">
                  <a:off x="2231640" y="49780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7186400">
                  <a:off x="2651400" y="49932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 rot="17186400">
                <a:off x="2221200" y="50238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225600" y="4749840"/>
              <a:ext cx="1241280" cy="1131840"/>
              <a:chOff x="3225600" y="4749840"/>
              <a:chExt cx="1241280" cy="113184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3225600" y="4749840"/>
                <a:ext cx="1241280" cy="1131840"/>
                <a:chOff x="3225600" y="4749840"/>
                <a:chExt cx="1241280" cy="1131840"/>
              </a:xfrm>
            </p:grpSpPr>
            <p:sp>
              <p:nvSpPr>
                <p:cNvPr id="143" name=""/>
                <p:cNvSpPr/>
                <p:nvPr/>
              </p:nvSpPr>
              <p:spPr>
                <a:xfrm rot="7297200">
                  <a:off x="3488400" y="4916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7297200">
                  <a:off x="3330360" y="50641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 rot="7297200">
                <a:off x="3969720" y="54298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17186400">
              <a:off x="4166280" y="51620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666880" y="3581280"/>
            <a:ext cx="878040" cy="917280"/>
            <a:chOff x="2666880" y="3581280"/>
            <a:chExt cx="878040" cy="917280"/>
          </a:xfrm>
        </p:grpSpPr>
        <p:sp>
          <p:nvSpPr>
            <p:cNvPr id="149" name=""/>
            <p:cNvSpPr/>
            <p:nvPr/>
          </p:nvSpPr>
          <p:spPr>
            <a:xfrm>
              <a:off x="2666880" y="3581280"/>
              <a:ext cx="838080" cy="797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86200" y="3940200"/>
              <a:ext cx="558720" cy="5583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267080" y="3962520"/>
            <a:ext cx="877680" cy="993240"/>
            <a:chOff x="4267080" y="3962520"/>
            <a:chExt cx="877680" cy="993240"/>
          </a:xfrm>
        </p:grpSpPr>
        <p:grpSp>
          <p:nvGrpSpPr>
            <p:cNvPr id="152" name=""/>
            <p:cNvGrpSpPr/>
            <p:nvPr/>
          </p:nvGrpSpPr>
          <p:grpSpPr>
            <a:xfrm>
              <a:off x="4267080" y="4038480"/>
              <a:ext cx="877680" cy="917280"/>
              <a:chOff x="4267080" y="4038480"/>
              <a:chExt cx="877680" cy="917280"/>
            </a:xfrm>
          </p:grpSpPr>
          <p:sp>
            <p:nvSpPr>
              <p:cNvPr id="153" name=""/>
              <p:cNvSpPr/>
              <p:nvPr/>
            </p:nvSpPr>
            <p:spPr>
              <a:xfrm>
                <a:off x="4267080" y="4038480"/>
                <a:ext cx="837720" cy="7977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86400" y="4397400"/>
                <a:ext cx="558360" cy="5583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647960" y="3962520"/>
              <a:ext cx="304920" cy="3045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57913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He’s Rick. I like ………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562284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hi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547400">
            <a:off x="3173040" y="4495680"/>
            <a:ext cx="2084400" cy="73512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525780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0430400">
            <a:off x="4876560" y="2282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430400">
            <a:off x="457200" y="380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2895480"/>
            <a:ext cx="685800" cy="1123920"/>
          </a:xfrm>
          <a:custGeom>
            <a:avLst/>
            <a:gdLst/>
            <a:ahLst/>
            <a:rect l="l" t="t" r="r" b="b"/>
            <a:pathLst>
              <a:path w="727" h="1284">
                <a:moveTo>
                  <a:pt x="467" y="1202"/>
                </a:moveTo>
                <a:cubicBezTo>
                  <a:pt x="455" y="1242"/>
                  <a:pt x="526" y="1236"/>
                  <a:pt x="495" y="1264"/>
                </a:cubicBezTo>
                <a:cubicBezTo>
                  <a:pt x="474" y="1283"/>
                  <a:pt x="451" y="1267"/>
                  <a:pt x="423" y="1264"/>
                </a:cubicBezTo>
                <a:cubicBezTo>
                  <a:pt x="392" y="1243"/>
                  <a:pt x="394" y="1284"/>
                  <a:pt x="373" y="1284"/>
                </a:cubicBezTo>
                <a:cubicBezTo>
                  <a:pt x="356" y="1229"/>
                  <a:pt x="428" y="1085"/>
                  <a:pt x="411" y="1018"/>
                </a:cubicBezTo>
                <a:cubicBezTo>
                  <a:pt x="409" y="960"/>
                  <a:pt x="387" y="933"/>
                  <a:pt x="373" y="914"/>
                </a:cubicBezTo>
                <a:cubicBezTo>
                  <a:pt x="353" y="889"/>
                  <a:pt x="309" y="884"/>
                  <a:pt x="291" y="870"/>
                </a:cubicBezTo>
                <a:cubicBezTo>
                  <a:pt x="273" y="856"/>
                  <a:pt x="274" y="845"/>
                  <a:pt x="263" y="828"/>
                </a:cubicBezTo>
                <a:cubicBezTo>
                  <a:pt x="252" y="811"/>
                  <a:pt x="246" y="796"/>
                  <a:pt x="223" y="766"/>
                </a:cubicBezTo>
                <a:cubicBezTo>
                  <a:pt x="169" y="729"/>
                  <a:pt x="163" y="697"/>
                  <a:pt x="125" y="646"/>
                </a:cubicBezTo>
                <a:cubicBezTo>
                  <a:pt x="110" y="605"/>
                  <a:pt x="20" y="598"/>
                  <a:pt x="5" y="557"/>
                </a:cubicBezTo>
                <a:cubicBezTo>
                  <a:pt x="8" y="529"/>
                  <a:pt x="0" y="496"/>
                  <a:pt x="15" y="472"/>
                </a:cubicBezTo>
                <a:cubicBezTo>
                  <a:pt x="26" y="455"/>
                  <a:pt x="71" y="453"/>
                  <a:pt x="71" y="453"/>
                </a:cubicBezTo>
                <a:cubicBezTo>
                  <a:pt x="81" y="456"/>
                  <a:pt x="95" y="453"/>
                  <a:pt x="100" y="462"/>
                </a:cubicBezTo>
                <a:cubicBezTo>
                  <a:pt x="113" y="485"/>
                  <a:pt x="116" y="572"/>
                  <a:pt x="137" y="604"/>
                </a:cubicBezTo>
                <a:cubicBezTo>
                  <a:pt x="155" y="631"/>
                  <a:pt x="186" y="661"/>
                  <a:pt x="213" y="679"/>
                </a:cubicBezTo>
                <a:cubicBezTo>
                  <a:pt x="219" y="689"/>
                  <a:pt x="224" y="700"/>
                  <a:pt x="232" y="708"/>
                </a:cubicBezTo>
                <a:cubicBezTo>
                  <a:pt x="240" y="716"/>
                  <a:pt x="253" y="718"/>
                  <a:pt x="260" y="727"/>
                </a:cubicBezTo>
                <a:cubicBezTo>
                  <a:pt x="288" y="761"/>
                  <a:pt x="262" y="774"/>
                  <a:pt x="317" y="793"/>
                </a:cubicBezTo>
                <a:cubicBezTo>
                  <a:pt x="301" y="768"/>
                  <a:pt x="286" y="742"/>
                  <a:pt x="270" y="717"/>
                </a:cubicBezTo>
                <a:cubicBezTo>
                  <a:pt x="264" y="707"/>
                  <a:pt x="251" y="689"/>
                  <a:pt x="251" y="689"/>
                </a:cubicBezTo>
                <a:cubicBezTo>
                  <a:pt x="231" y="594"/>
                  <a:pt x="260" y="677"/>
                  <a:pt x="213" y="623"/>
                </a:cubicBezTo>
                <a:cubicBezTo>
                  <a:pt x="198" y="606"/>
                  <a:pt x="175" y="566"/>
                  <a:pt x="175" y="566"/>
                </a:cubicBezTo>
                <a:cubicBezTo>
                  <a:pt x="165" y="535"/>
                  <a:pt x="148" y="511"/>
                  <a:pt x="137" y="481"/>
                </a:cubicBezTo>
                <a:cubicBezTo>
                  <a:pt x="128" y="418"/>
                  <a:pt x="132" y="401"/>
                  <a:pt x="90" y="358"/>
                </a:cubicBezTo>
                <a:cubicBezTo>
                  <a:pt x="84" y="338"/>
                  <a:pt x="67" y="302"/>
                  <a:pt x="90" y="283"/>
                </a:cubicBezTo>
                <a:cubicBezTo>
                  <a:pt x="100" y="275"/>
                  <a:pt x="115" y="289"/>
                  <a:pt x="128" y="292"/>
                </a:cubicBezTo>
                <a:cubicBezTo>
                  <a:pt x="141" y="347"/>
                  <a:pt x="161" y="399"/>
                  <a:pt x="175" y="453"/>
                </a:cubicBezTo>
                <a:cubicBezTo>
                  <a:pt x="182" y="481"/>
                  <a:pt x="176" y="515"/>
                  <a:pt x="194" y="538"/>
                </a:cubicBezTo>
                <a:cubicBezTo>
                  <a:pt x="209" y="558"/>
                  <a:pt x="233" y="568"/>
                  <a:pt x="251" y="585"/>
                </a:cubicBezTo>
                <a:cubicBezTo>
                  <a:pt x="272" y="555"/>
                  <a:pt x="280" y="558"/>
                  <a:pt x="260" y="519"/>
                </a:cubicBezTo>
                <a:cubicBezTo>
                  <a:pt x="250" y="499"/>
                  <a:pt x="222" y="462"/>
                  <a:pt x="222" y="462"/>
                </a:cubicBezTo>
                <a:cubicBezTo>
                  <a:pt x="210" y="424"/>
                  <a:pt x="176" y="357"/>
                  <a:pt x="161" y="328"/>
                </a:cubicBezTo>
                <a:cubicBezTo>
                  <a:pt x="155" y="316"/>
                  <a:pt x="166" y="292"/>
                  <a:pt x="156" y="283"/>
                </a:cubicBezTo>
                <a:cubicBezTo>
                  <a:pt x="142" y="239"/>
                  <a:pt x="114" y="204"/>
                  <a:pt x="100" y="160"/>
                </a:cubicBezTo>
                <a:cubicBezTo>
                  <a:pt x="91" y="127"/>
                  <a:pt x="80" y="103"/>
                  <a:pt x="81" y="84"/>
                </a:cubicBezTo>
                <a:cubicBezTo>
                  <a:pt x="80" y="66"/>
                  <a:pt x="89" y="51"/>
                  <a:pt x="95" y="50"/>
                </a:cubicBezTo>
                <a:cubicBezTo>
                  <a:pt x="97" y="40"/>
                  <a:pt x="116" y="65"/>
                  <a:pt x="118" y="75"/>
                </a:cubicBezTo>
                <a:cubicBezTo>
                  <a:pt x="123" y="100"/>
                  <a:pt x="120" y="127"/>
                  <a:pt x="128" y="151"/>
                </a:cubicBezTo>
                <a:cubicBezTo>
                  <a:pt x="133" y="166"/>
                  <a:pt x="147" y="176"/>
                  <a:pt x="156" y="188"/>
                </a:cubicBezTo>
                <a:cubicBezTo>
                  <a:pt x="182" y="264"/>
                  <a:pt x="168" y="374"/>
                  <a:pt x="241" y="424"/>
                </a:cubicBezTo>
                <a:cubicBezTo>
                  <a:pt x="268" y="324"/>
                  <a:pt x="266" y="232"/>
                  <a:pt x="194" y="160"/>
                </a:cubicBezTo>
                <a:cubicBezTo>
                  <a:pt x="177" y="108"/>
                  <a:pt x="180" y="106"/>
                  <a:pt x="232" y="94"/>
                </a:cubicBezTo>
                <a:cubicBezTo>
                  <a:pt x="269" y="148"/>
                  <a:pt x="239" y="95"/>
                  <a:pt x="260" y="188"/>
                </a:cubicBezTo>
                <a:cubicBezTo>
                  <a:pt x="264" y="208"/>
                  <a:pt x="275" y="225"/>
                  <a:pt x="279" y="245"/>
                </a:cubicBezTo>
                <a:cubicBezTo>
                  <a:pt x="282" y="261"/>
                  <a:pt x="285" y="276"/>
                  <a:pt x="288" y="292"/>
                </a:cubicBezTo>
                <a:cubicBezTo>
                  <a:pt x="295" y="474"/>
                  <a:pt x="293" y="524"/>
                  <a:pt x="326" y="660"/>
                </a:cubicBezTo>
                <a:cubicBezTo>
                  <a:pt x="341" y="550"/>
                  <a:pt x="355" y="488"/>
                  <a:pt x="365" y="392"/>
                </a:cubicBezTo>
                <a:cubicBezTo>
                  <a:pt x="364" y="325"/>
                  <a:pt x="365" y="312"/>
                  <a:pt x="365" y="284"/>
                </a:cubicBezTo>
                <a:cubicBezTo>
                  <a:pt x="372" y="256"/>
                  <a:pt x="400" y="249"/>
                  <a:pt x="409" y="224"/>
                </a:cubicBezTo>
                <a:cubicBezTo>
                  <a:pt x="412" y="199"/>
                  <a:pt x="419" y="163"/>
                  <a:pt x="421" y="132"/>
                </a:cubicBezTo>
                <a:cubicBezTo>
                  <a:pt x="417" y="102"/>
                  <a:pt x="381" y="64"/>
                  <a:pt x="385" y="42"/>
                </a:cubicBezTo>
                <a:cubicBezTo>
                  <a:pt x="391" y="23"/>
                  <a:pt x="422" y="3"/>
                  <a:pt x="443" y="2"/>
                </a:cubicBezTo>
                <a:cubicBezTo>
                  <a:pt x="464" y="1"/>
                  <a:pt x="507" y="0"/>
                  <a:pt x="509" y="38"/>
                </a:cubicBezTo>
                <a:cubicBezTo>
                  <a:pt x="511" y="76"/>
                  <a:pt x="485" y="33"/>
                  <a:pt x="469" y="86"/>
                </a:cubicBezTo>
                <a:cubicBezTo>
                  <a:pt x="453" y="139"/>
                  <a:pt x="422" y="256"/>
                  <a:pt x="411" y="358"/>
                </a:cubicBezTo>
                <a:cubicBezTo>
                  <a:pt x="372" y="484"/>
                  <a:pt x="395" y="504"/>
                  <a:pt x="402" y="698"/>
                </a:cubicBezTo>
                <a:cubicBezTo>
                  <a:pt x="415" y="751"/>
                  <a:pt x="418" y="736"/>
                  <a:pt x="429" y="676"/>
                </a:cubicBezTo>
                <a:cubicBezTo>
                  <a:pt x="440" y="616"/>
                  <a:pt x="458" y="408"/>
                  <a:pt x="468" y="339"/>
                </a:cubicBezTo>
                <a:cubicBezTo>
                  <a:pt x="470" y="313"/>
                  <a:pt x="481" y="289"/>
                  <a:pt x="487" y="264"/>
                </a:cubicBezTo>
                <a:cubicBezTo>
                  <a:pt x="492" y="242"/>
                  <a:pt x="486" y="218"/>
                  <a:pt x="496" y="198"/>
                </a:cubicBezTo>
                <a:cubicBezTo>
                  <a:pt x="500" y="190"/>
                  <a:pt x="550" y="158"/>
                  <a:pt x="562" y="151"/>
                </a:cubicBezTo>
                <a:cubicBezTo>
                  <a:pt x="588" y="202"/>
                  <a:pt x="584" y="224"/>
                  <a:pt x="543" y="264"/>
                </a:cubicBezTo>
                <a:cubicBezTo>
                  <a:pt x="518" y="371"/>
                  <a:pt x="533" y="481"/>
                  <a:pt x="496" y="585"/>
                </a:cubicBezTo>
                <a:cubicBezTo>
                  <a:pt x="499" y="620"/>
                  <a:pt x="493" y="657"/>
                  <a:pt x="506" y="689"/>
                </a:cubicBezTo>
                <a:cubicBezTo>
                  <a:pt x="510" y="700"/>
                  <a:pt x="520" y="671"/>
                  <a:pt x="525" y="660"/>
                </a:cubicBezTo>
                <a:cubicBezTo>
                  <a:pt x="530" y="648"/>
                  <a:pt x="531" y="635"/>
                  <a:pt x="534" y="623"/>
                </a:cubicBezTo>
                <a:cubicBezTo>
                  <a:pt x="541" y="547"/>
                  <a:pt x="534" y="470"/>
                  <a:pt x="591" y="415"/>
                </a:cubicBezTo>
                <a:cubicBezTo>
                  <a:pt x="611" y="310"/>
                  <a:pt x="570" y="340"/>
                  <a:pt x="591" y="282"/>
                </a:cubicBezTo>
                <a:cubicBezTo>
                  <a:pt x="594" y="260"/>
                  <a:pt x="628" y="204"/>
                  <a:pt x="628" y="226"/>
                </a:cubicBezTo>
                <a:cubicBezTo>
                  <a:pt x="627" y="226"/>
                  <a:pt x="687" y="203"/>
                  <a:pt x="701" y="214"/>
                </a:cubicBezTo>
                <a:cubicBezTo>
                  <a:pt x="715" y="225"/>
                  <a:pt x="727" y="263"/>
                  <a:pt x="713" y="292"/>
                </a:cubicBezTo>
                <a:cubicBezTo>
                  <a:pt x="699" y="321"/>
                  <a:pt x="638" y="357"/>
                  <a:pt x="619" y="387"/>
                </a:cubicBezTo>
                <a:cubicBezTo>
                  <a:pt x="616" y="416"/>
                  <a:pt x="605" y="443"/>
                  <a:pt x="600" y="472"/>
                </a:cubicBezTo>
                <a:cubicBezTo>
                  <a:pt x="606" y="557"/>
                  <a:pt x="630" y="717"/>
                  <a:pt x="543" y="774"/>
                </a:cubicBezTo>
                <a:cubicBezTo>
                  <a:pt x="568" y="843"/>
                  <a:pt x="532" y="773"/>
                  <a:pt x="581" y="783"/>
                </a:cubicBezTo>
                <a:cubicBezTo>
                  <a:pt x="592" y="785"/>
                  <a:pt x="594" y="802"/>
                  <a:pt x="600" y="812"/>
                </a:cubicBezTo>
                <a:cubicBezTo>
                  <a:pt x="597" y="828"/>
                  <a:pt x="599" y="845"/>
                  <a:pt x="591" y="859"/>
                </a:cubicBezTo>
                <a:cubicBezTo>
                  <a:pt x="585" y="869"/>
                  <a:pt x="414" y="864"/>
                  <a:pt x="469" y="932"/>
                </a:cubicBezTo>
                <a:cubicBezTo>
                  <a:pt x="456" y="987"/>
                  <a:pt x="472" y="1145"/>
                  <a:pt x="467" y="1202"/>
                </a:cubicBezTo>
                <a:close/>
              </a:path>
            </a:pathLst>
          </a:cu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0430400">
            <a:off x="8077320" y="380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533520" y="365760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4572000" y="2895480"/>
            <a:ext cx="3352680" cy="2762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2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2590920" y="27432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/>
          <a:stretch/>
        </p:blipFill>
        <p:spPr>
          <a:xfrm>
            <a:off x="1905120" y="9907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5"/>
          <a:stretch/>
        </p:blipFill>
        <p:spPr>
          <a:xfrm>
            <a:off x="457200" y="25146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6"/>
          <a:stretch/>
        </p:blipFill>
        <p:spPr>
          <a:xfrm>
            <a:off x="7972560" y="4572000"/>
            <a:ext cx="1171440" cy="2057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10430400">
            <a:off x="7619760" y="5334120"/>
            <a:ext cx="1149120" cy="114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7"/>
          <a:stretch/>
        </p:blipFill>
        <p:spPr>
          <a:xfrm>
            <a:off x="8305920" y="990720"/>
            <a:ext cx="7048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895480" y="5029200"/>
            <a:ext cx="877680" cy="993240"/>
            <a:chOff x="2895480" y="5029200"/>
            <a:chExt cx="877680" cy="993240"/>
          </a:xfrm>
        </p:grpSpPr>
        <p:grpSp>
          <p:nvGrpSpPr>
            <p:cNvPr id="184" name=""/>
            <p:cNvGrpSpPr/>
            <p:nvPr/>
          </p:nvGrpSpPr>
          <p:grpSpPr>
            <a:xfrm>
              <a:off x="2895480" y="5105160"/>
              <a:ext cx="877680" cy="917280"/>
              <a:chOff x="2895480" y="5105160"/>
              <a:chExt cx="877680" cy="917280"/>
            </a:xfrm>
          </p:grpSpPr>
          <p:sp>
            <p:nvSpPr>
              <p:cNvPr id="185" name=""/>
              <p:cNvSpPr/>
              <p:nvPr/>
            </p:nvSpPr>
            <p:spPr>
              <a:xfrm>
                <a:off x="2895480" y="5105160"/>
                <a:ext cx="837720" cy="7977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14800" y="5464080"/>
                <a:ext cx="558360" cy="5583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3276360" y="5029200"/>
              <a:ext cx="304920" cy="3045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86200" y="525780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44388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7302600" y="3802680"/>
            <a:ext cx="1845360" cy="2120040"/>
            <a:chOff x="7302600" y="3802680"/>
            <a:chExt cx="1845360" cy="2120040"/>
          </a:xfrm>
        </p:grpSpPr>
        <p:grpSp>
          <p:nvGrpSpPr>
            <p:cNvPr id="191" name=""/>
            <p:cNvGrpSpPr/>
            <p:nvPr/>
          </p:nvGrpSpPr>
          <p:grpSpPr>
            <a:xfrm>
              <a:off x="7302600" y="4679640"/>
              <a:ext cx="1132560" cy="1243080"/>
              <a:chOff x="7302600" y="4679640"/>
              <a:chExt cx="1132560" cy="124308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7302600" y="4679640"/>
                <a:ext cx="1132560" cy="1243080"/>
                <a:chOff x="7302600" y="4679640"/>
                <a:chExt cx="1132560" cy="1243080"/>
              </a:xfrm>
            </p:grpSpPr>
            <p:sp>
              <p:nvSpPr>
                <p:cNvPr id="193" name=""/>
                <p:cNvSpPr/>
                <p:nvPr/>
              </p:nvSpPr>
              <p:spPr>
                <a:xfrm rot="14123400">
                  <a:off x="7449840" y="4952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4123400">
                  <a:off x="7684200" y="47883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 rot="14123400">
                <a:off x="7385760" y="52880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8089200" y="3807720"/>
              <a:ext cx="1058760" cy="1132920"/>
              <a:chOff x="8089200" y="3807720"/>
              <a:chExt cx="1058760" cy="113292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8089200" y="3807720"/>
                <a:ext cx="1037880" cy="1132920"/>
                <a:chOff x="8089200" y="3807720"/>
                <a:chExt cx="1037880" cy="1132920"/>
              </a:xfrm>
            </p:grpSpPr>
            <p:sp>
              <p:nvSpPr>
                <p:cNvPr id="198" name=""/>
                <p:cNvSpPr/>
                <p:nvPr/>
              </p:nvSpPr>
              <p:spPr>
                <a:xfrm rot="4234800">
                  <a:off x="8192520" y="39362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4234800">
                  <a:off x="8165880" y="43052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 rot="4234800">
                <a:off x="8800920" y="418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rot="14123400">
              <a:off x="8716320" y="386208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5810400"/>
            <a:ext cx="8915400" cy="1047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972560" y="4419720"/>
            <a:ext cx="117144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228600" y="9360"/>
            <a:ext cx="8915400" cy="1209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44800" y="4673880"/>
            <a:ext cx="2358720" cy="1141920"/>
            <a:chOff x="244800" y="4673880"/>
            <a:chExt cx="2358720" cy="1141920"/>
          </a:xfrm>
        </p:grpSpPr>
        <p:grpSp>
          <p:nvGrpSpPr>
            <p:cNvPr id="211" name=""/>
            <p:cNvGrpSpPr/>
            <p:nvPr/>
          </p:nvGrpSpPr>
          <p:grpSpPr>
            <a:xfrm>
              <a:off x="244800" y="4786560"/>
              <a:ext cx="1127880" cy="1029240"/>
              <a:chOff x="244800" y="4786560"/>
              <a:chExt cx="1127880" cy="102924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244800" y="4786560"/>
                <a:ext cx="1127880" cy="1029240"/>
                <a:chOff x="244800" y="4786560"/>
                <a:chExt cx="1127880" cy="1029240"/>
              </a:xfrm>
            </p:grpSpPr>
            <p:sp>
              <p:nvSpPr>
                <p:cNvPr id="213" name=""/>
                <p:cNvSpPr/>
                <p:nvPr/>
              </p:nvSpPr>
              <p:spPr>
                <a:xfrm rot="17186400">
                  <a:off x="326880" y="49021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7186400">
                  <a:off x="746640" y="49172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 rot="17186400">
                <a:off x="316440" y="49478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320840" y="4673880"/>
              <a:ext cx="1241280" cy="1131840"/>
              <a:chOff x="1320840" y="4673880"/>
              <a:chExt cx="1241280" cy="11318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1320840" y="4673880"/>
                <a:ext cx="1241280" cy="1131840"/>
                <a:chOff x="1320840" y="4673880"/>
                <a:chExt cx="1241280" cy="1131840"/>
              </a:xfrm>
            </p:grpSpPr>
            <p:sp>
              <p:nvSpPr>
                <p:cNvPr id="218" name=""/>
                <p:cNvSpPr/>
                <p:nvPr/>
              </p:nvSpPr>
              <p:spPr>
                <a:xfrm rot="7297200">
                  <a:off x="1583640" y="484056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7297200">
                  <a:off x="1425600" y="49881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 rot="7297200">
                <a:off x="2064960" y="535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rot="17186400">
              <a:off x="2261520" y="508608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05120" y="3505320"/>
            <a:ext cx="877680" cy="917280"/>
            <a:chOff x="1905120" y="3505320"/>
            <a:chExt cx="877680" cy="917280"/>
          </a:xfrm>
        </p:grpSpPr>
        <p:sp>
          <p:nvSpPr>
            <p:cNvPr id="224" name=""/>
            <p:cNvSpPr/>
            <p:nvPr/>
          </p:nvSpPr>
          <p:spPr>
            <a:xfrm>
              <a:off x="1905120" y="3505320"/>
              <a:ext cx="837720" cy="797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24440" y="3864240"/>
              <a:ext cx="558360" cy="5583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320" y="5791320"/>
            <a:ext cx="906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They’re nice. I like ……..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562284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th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21094800">
            <a:off x="277920" y="4343400"/>
            <a:ext cx="2084400" cy="73512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430400">
            <a:off x="4876560" y="2282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0" y="3289320"/>
            <a:ext cx="547560" cy="977760"/>
            <a:chOff x="2286000" y="3289320"/>
            <a:chExt cx="547560" cy="977760"/>
          </a:xfrm>
        </p:grpSpPr>
        <p:sp>
          <p:nvSpPr>
            <p:cNvPr id="234" name=""/>
            <p:cNvSpPr/>
            <p:nvPr/>
          </p:nvSpPr>
          <p:spPr>
            <a:xfrm>
              <a:off x="2587680" y="3854520"/>
              <a:ext cx="117360" cy="11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87600" y="4152960"/>
              <a:ext cx="119160" cy="11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86000" y="3975120"/>
              <a:ext cx="158760" cy="152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21080" y="3924360"/>
              <a:ext cx="118800" cy="11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87600" y="3581280"/>
              <a:ext cx="11916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28800" y="3460680"/>
              <a:ext cx="104760" cy="10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57520" y="3289320"/>
              <a:ext cx="156960" cy="152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8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9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0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1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"/>
          <a:stretch/>
        </p:blipFill>
        <p:spPr>
          <a:xfrm>
            <a:off x="228600" y="32004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4"/>
          <a:stretch/>
        </p:blipFill>
        <p:spPr>
          <a:xfrm>
            <a:off x="2362320" y="266688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5"/>
          <a:stretch/>
        </p:blipFill>
        <p:spPr>
          <a:xfrm>
            <a:off x="4952880" y="2895480"/>
            <a:ext cx="704880" cy="1143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rot="10430400">
            <a:off x="3809880" y="2653920"/>
            <a:ext cx="1841760" cy="184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6"/>
          <a:stretch/>
        </p:blipFill>
        <p:spPr>
          <a:xfrm>
            <a:off x="8153280" y="9144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7"/>
          <a:stretch/>
        </p:blipFill>
        <p:spPr>
          <a:xfrm>
            <a:off x="1828800" y="1066680"/>
            <a:ext cx="704880" cy="1143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rot="10430400">
            <a:off x="1523520" y="1218600"/>
            <a:ext cx="106704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1209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8915400" cy="1047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845400" y="3802680"/>
            <a:ext cx="1845360" cy="2120040"/>
            <a:chOff x="6845400" y="3802680"/>
            <a:chExt cx="1845360" cy="2120040"/>
          </a:xfrm>
        </p:grpSpPr>
        <p:grpSp>
          <p:nvGrpSpPr>
            <p:cNvPr id="263" name=""/>
            <p:cNvGrpSpPr/>
            <p:nvPr/>
          </p:nvGrpSpPr>
          <p:grpSpPr>
            <a:xfrm>
              <a:off x="6845400" y="4679640"/>
              <a:ext cx="1132560" cy="1243080"/>
              <a:chOff x="6845400" y="4679640"/>
              <a:chExt cx="1132560" cy="124308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6845400" y="4679640"/>
                <a:ext cx="1132560" cy="1243080"/>
                <a:chOff x="6845400" y="4679640"/>
                <a:chExt cx="1132560" cy="1243080"/>
              </a:xfrm>
            </p:grpSpPr>
            <p:sp>
              <p:nvSpPr>
                <p:cNvPr id="265" name=""/>
                <p:cNvSpPr/>
                <p:nvPr/>
              </p:nvSpPr>
              <p:spPr>
                <a:xfrm rot="14123400">
                  <a:off x="6992640" y="4952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14123400">
                  <a:off x="7227000" y="47883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 rot="14123400">
                <a:off x="6928560" y="52880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632000" y="3807720"/>
              <a:ext cx="1058760" cy="1132920"/>
              <a:chOff x="7632000" y="3807720"/>
              <a:chExt cx="1058760" cy="113292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632000" y="3807720"/>
                <a:ext cx="1037880" cy="1132920"/>
                <a:chOff x="7632000" y="3807720"/>
                <a:chExt cx="1037880" cy="1132920"/>
              </a:xfrm>
            </p:grpSpPr>
            <p:sp>
              <p:nvSpPr>
                <p:cNvPr id="270" name=""/>
                <p:cNvSpPr/>
                <p:nvPr/>
              </p:nvSpPr>
              <p:spPr>
                <a:xfrm rot="4234800">
                  <a:off x="7735320" y="39362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4234800">
                  <a:off x="7708680" y="43052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 rot="4234800">
                <a:off x="8343720" y="418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rot="14123400">
              <a:off x="8259120" y="386208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44800" y="4673880"/>
            <a:ext cx="2358720" cy="1141920"/>
            <a:chOff x="244800" y="4673880"/>
            <a:chExt cx="2358720" cy="1141920"/>
          </a:xfrm>
        </p:grpSpPr>
        <p:grpSp>
          <p:nvGrpSpPr>
            <p:cNvPr id="276" name=""/>
            <p:cNvGrpSpPr/>
            <p:nvPr/>
          </p:nvGrpSpPr>
          <p:grpSpPr>
            <a:xfrm>
              <a:off x="244800" y="4786560"/>
              <a:ext cx="1127880" cy="1029240"/>
              <a:chOff x="244800" y="4786560"/>
              <a:chExt cx="1127880" cy="102924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244800" y="4786560"/>
                <a:ext cx="1127880" cy="1029240"/>
                <a:chOff x="244800" y="4786560"/>
                <a:chExt cx="1127880" cy="1029240"/>
              </a:xfrm>
            </p:grpSpPr>
            <p:sp>
              <p:nvSpPr>
                <p:cNvPr id="278" name=""/>
                <p:cNvSpPr/>
                <p:nvPr/>
              </p:nvSpPr>
              <p:spPr>
                <a:xfrm rot="17186400">
                  <a:off x="326880" y="49021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17186400">
                  <a:off x="746640" y="49172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 rot="17186400">
                <a:off x="316440" y="49478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320840" y="4673880"/>
              <a:ext cx="1241280" cy="1131840"/>
              <a:chOff x="1320840" y="4673880"/>
              <a:chExt cx="1241280" cy="113184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1320840" y="4673880"/>
                <a:ext cx="1241280" cy="1131840"/>
                <a:chOff x="1320840" y="4673880"/>
                <a:chExt cx="1241280" cy="1131840"/>
              </a:xfrm>
            </p:grpSpPr>
            <p:sp>
              <p:nvSpPr>
                <p:cNvPr id="283" name=""/>
                <p:cNvSpPr/>
                <p:nvPr/>
              </p:nvSpPr>
              <p:spPr>
                <a:xfrm rot="7297200">
                  <a:off x="1583640" y="484056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7297200">
                  <a:off x="1425600" y="49881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 rot="7297200">
                <a:off x="2064960" y="535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rot="17186400">
              <a:off x="2261520" y="508608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76920" y="3273480"/>
            <a:ext cx="877680" cy="993240"/>
            <a:chOff x="4876920" y="3273480"/>
            <a:chExt cx="877680" cy="993240"/>
          </a:xfrm>
        </p:grpSpPr>
        <p:grpSp>
          <p:nvGrpSpPr>
            <p:cNvPr id="289" name=""/>
            <p:cNvGrpSpPr/>
            <p:nvPr/>
          </p:nvGrpSpPr>
          <p:grpSpPr>
            <a:xfrm>
              <a:off x="4876920" y="3349440"/>
              <a:ext cx="877680" cy="917280"/>
              <a:chOff x="4876920" y="3349440"/>
              <a:chExt cx="877680" cy="917280"/>
            </a:xfrm>
          </p:grpSpPr>
          <p:sp>
            <p:nvSpPr>
              <p:cNvPr id="290" name=""/>
              <p:cNvSpPr/>
              <p:nvPr/>
            </p:nvSpPr>
            <p:spPr>
              <a:xfrm>
                <a:off x="4876920" y="3349440"/>
                <a:ext cx="837720" cy="7977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196240" y="3708360"/>
                <a:ext cx="558360" cy="5583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257800" y="3273480"/>
              <a:ext cx="304920" cy="3045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320" y="579132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I’m Tina. Everybody likes .……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162920" y="54864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350080" y="3608280"/>
            <a:ext cx="1660680" cy="2093760"/>
            <a:chOff x="2350080" y="3608280"/>
            <a:chExt cx="1660680" cy="2093760"/>
          </a:xfrm>
        </p:grpSpPr>
        <p:grpSp>
          <p:nvGrpSpPr>
            <p:cNvPr id="298" name=""/>
            <p:cNvGrpSpPr/>
            <p:nvPr/>
          </p:nvGrpSpPr>
          <p:grpSpPr>
            <a:xfrm>
              <a:off x="2350080" y="3608280"/>
              <a:ext cx="1095480" cy="1055520"/>
              <a:chOff x="2350080" y="3608280"/>
              <a:chExt cx="1095480" cy="105552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2350080" y="3639600"/>
                <a:ext cx="1095480" cy="1024200"/>
                <a:chOff x="2350080" y="3639600"/>
                <a:chExt cx="1095480" cy="1024200"/>
              </a:xfrm>
            </p:grpSpPr>
            <p:sp>
              <p:nvSpPr>
                <p:cNvPr id="300" name=""/>
                <p:cNvSpPr/>
                <p:nvPr/>
              </p:nvSpPr>
              <p:spPr>
                <a:xfrm rot="20644200">
                  <a:off x="2443320" y="37393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20644200">
                  <a:off x="2821320" y="40395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 rot="20644200">
                <a:off x="2730960" y="364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121200" y="4647240"/>
              <a:ext cx="889560" cy="997920"/>
              <a:chOff x="3121200" y="4647240"/>
              <a:chExt cx="889560" cy="99792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3121200" y="4647240"/>
                <a:ext cx="889560" cy="924120"/>
                <a:chOff x="3121200" y="4647240"/>
                <a:chExt cx="889560" cy="924120"/>
              </a:xfrm>
            </p:grpSpPr>
            <p:sp>
              <p:nvSpPr>
                <p:cNvPr id="305" name=""/>
                <p:cNvSpPr/>
                <p:nvPr/>
              </p:nvSpPr>
              <p:spPr>
                <a:xfrm rot="10755600">
                  <a:off x="3167640" y="476820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10755600">
                  <a:off x="3124800" y="46508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 rot="10755600">
                <a:off x="3323880" y="53384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 rot="20644200">
              <a:off x="3655440" y="536112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828800" y="5181480"/>
            <a:ext cx="125244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0430400">
            <a:off x="4876560" y="2282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0430400">
            <a:off x="457200" y="380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0430400">
            <a:off x="8077320" y="380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914400" y="3886200"/>
            <a:ext cx="877680" cy="993240"/>
            <a:chOff x="914400" y="3886200"/>
            <a:chExt cx="877680" cy="993240"/>
          </a:xfrm>
        </p:grpSpPr>
        <p:grpSp>
          <p:nvGrpSpPr>
            <p:cNvPr id="315" name=""/>
            <p:cNvGrpSpPr/>
            <p:nvPr/>
          </p:nvGrpSpPr>
          <p:grpSpPr>
            <a:xfrm>
              <a:off x="914400" y="3962160"/>
              <a:ext cx="877680" cy="917280"/>
              <a:chOff x="914400" y="3962160"/>
              <a:chExt cx="877680" cy="917280"/>
            </a:xfrm>
          </p:grpSpPr>
          <p:sp>
            <p:nvSpPr>
              <p:cNvPr id="316" name=""/>
              <p:cNvSpPr/>
              <p:nvPr/>
            </p:nvSpPr>
            <p:spPr>
              <a:xfrm>
                <a:off x="914400" y="3962160"/>
                <a:ext cx="837720" cy="7977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33720" y="4321080"/>
                <a:ext cx="558360" cy="5583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1295280" y="3886200"/>
              <a:ext cx="304920" cy="3045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4038480" y="3962520"/>
            <a:ext cx="3219480" cy="1828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7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9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0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1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2"/>
          <a:stretch/>
        </p:blipFill>
        <p:spPr>
          <a:xfrm>
            <a:off x="7848720" y="4343400"/>
            <a:ext cx="1171440" cy="205740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3"/>
          <a:stretch/>
        </p:blipFill>
        <p:spPr>
          <a:xfrm>
            <a:off x="8153280" y="9907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14"/>
          <a:stretch/>
        </p:blipFill>
        <p:spPr>
          <a:xfrm>
            <a:off x="4114800" y="2895480"/>
            <a:ext cx="704880" cy="1143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rot="10430400">
            <a:off x="3809880" y="2653920"/>
            <a:ext cx="1841760" cy="184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5"/>
          <a:stretch/>
        </p:blipFill>
        <p:spPr>
          <a:xfrm>
            <a:off x="2438280" y="28195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6"/>
          <a:stretch/>
        </p:blipFill>
        <p:spPr>
          <a:xfrm>
            <a:off x="1981080" y="1143000"/>
            <a:ext cx="704880" cy="1143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 rot="10430400">
            <a:off x="1523520" y="1218600"/>
            <a:ext cx="106704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7"/>
          <a:stretch/>
        </p:blipFill>
        <p:spPr>
          <a:xfrm>
            <a:off x="0" y="27432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8"/>
          <a:stretch/>
        </p:blipFill>
        <p:spPr>
          <a:xfrm>
            <a:off x="609480" y="3505320"/>
            <a:ext cx="131472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76320" y="5810400"/>
            <a:ext cx="8915400" cy="10476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228600" y="0"/>
            <a:ext cx="8915400" cy="12096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074000" y="3802680"/>
            <a:ext cx="1845360" cy="2120040"/>
            <a:chOff x="7074000" y="3802680"/>
            <a:chExt cx="1845360" cy="2120040"/>
          </a:xfrm>
        </p:grpSpPr>
        <p:grpSp>
          <p:nvGrpSpPr>
            <p:cNvPr id="344" name=""/>
            <p:cNvGrpSpPr/>
            <p:nvPr/>
          </p:nvGrpSpPr>
          <p:grpSpPr>
            <a:xfrm>
              <a:off x="7074000" y="4679640"/>
              <a:ext cx="1132560" cy="1243080"/>
              <a:chOff x="7074000" y="4679640"/>
              <a:chExt cx="1132560" cy="124308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7074000" y="4679640"/>
                <a:ext cx="1132560" cy="1243080"/>
                <a:chOff x="7074000" y="4679640"/>
                <a:chExt cx="1132560" cy="1243080"/>
              </a:xfrm>
            </p:grpSpPr>
            <p:sp>
              <p:nvSpPr>
                <p:cNvPr id="346" name=""/>
                <p:cNvSpPr/>
                <p:nvPr/>
              </p:nvSpPr>
              <p:spPr>
                <a:xfrm rot="14123400">
                  <a:off x="7221240" y="4952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4123400">
                  <a:off x="7455600" y="47883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 rot="14123400">
                <a:off x="7157160" y="52880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860600" y="3807720"/>
              <a:ext cx="1058760" cy="1132920"/>
              <a:chOff x="7860600" y="3807720"/>
              <a:chExt cx="1058760" cy="113292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7860600" y="3807720"/>
                <a:ext cx="1037880" cy="1132920"/>
                <a:chOff x="7860600" y="3807720"/>
                <a:chExt cx="1037880" cy="1132920"/>
              </a:xfrm>
            </p:grpSpPr>
            <p:sp>
              <p:nvSpPr>
                <p:cNvPr id="351" name=""/>
                <p:cNvSpPr/>
                <p:nvPr/>
              </p:nvSpPr>
              <p:spPr>
                <a:xfrm rot="4234800">
                  <a:off x="7963920" y="39362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4234800">
                  <a:off x="7937280" y="43052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 rot="4234800">
                <a:off x="8572320" y="418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14123400">
              <a:off x="8487720" y="386208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92360" y="4749840"/>
            <a:ext cx="2358720" cy="1141920"/>
            <a:chOff x="1692360" y="4749840"/>
            <a:chExt cx="2358720" cy="1141920"/>
          </a:xfrm>
        </p:grpSpPr>
        <p:grpSp>
          <p:nvGrpSpPr>
            <p:cNvPr id="357" name=""/>
            <p:cNvGrpSpPr/>
            <p:nvPr/>
          </p:nvGrpSpPr>
          <p:grpSpPr>
            <a:xfrm>
              <a:off x="1692360" y="4862520"/>
              <a:ext cx="1127880" cy="1029240"/>
              <a:chOff x="1692360" y="4862520"/>
              <a:chExt cx="1127880" cy="102924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1692360" y="4862520"/>
                <a:ext cx="1127880" cy="1029240"/>
                <a:chOff x="1692360" y="4862520"/>
                <a:chExt cx="1127880" cy="1029240"/>
              </a:xfrm>
            </p:grpSpPr>
            <p:sp>
              <p:nvSpPr>
                <p:cNvPr id="359" name=""/>
                <p:cNvSpPr/>
                <p:nvPr/>
              </p:nvSpPr>
              <p:spPr>
                <a:xfrm rot="17186400">
                  <a:off x="1774440" y="49780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17186400">
                  <a:off x="2194200" y="49932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 rot="17186400">
                <a:off x="1764000" y="50238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2768400" y="4749840"/>
              <a:ext cx="1241280" cy="1131840"/>
              <a:chOff x="2768400" y="4749840"/>
              <a:chExt cx="1241280" cy="113184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2768400" y="4749840"/>
                <a:ext cx="1241280" cy="1131840"/>
                <a:chOff x="2768400" y="4749840"/>
                <a:chExt cx="1241280" cy="1131840"/>
              </a:xfrm>
            </p:grpSpPr>
            <p:sp>
              <p:nvSpPr>
                <p:cNvPr id="364" name=""/>
                <p:cNvSpPr/>
                <p:nvPr/>
              </p:nvSpPr>
              <p:spPr>
                <a:xfrm rot="7297200">
                  <a:off x="3031200" y="4916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rot="7297200">
                  <a:off x="2873160" y="50641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 rot="7297200">
                <a:off x="3512520" y="54298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 rot="17186400">
              <a:off x="3709080" y="51620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371600" y="3809880"/>
            <a:ext cx="878040" cy="917280"/>
            <a:chOff x="1371600" y="3809880"/>
            <a:chExt cx="878040" cy="917280"/>
          </a:xfrm>
        </p:grpSpPr>
        <p:sp>
          <p:nvSpPr>
            <p:cNvPr id="370" name=""/>
            <p:cNvSpPr/>
            <p:nvPr/>
          </p:nvSpPr>
          <p:spPr>
            <a:xfrm>
              <a:off x="1371600" y="3809880"/>
              <a:ext cx="838080" cy="797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90920" y="4168800"/>
              <a:ext cx="558720" cy="5583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4267080" y="4187880"/>
            <a:ext cx="877680" cy="993240"/>
            <a:chOff x="4267080" y="4187880"/>
            <a:chExt cx="877680" cy="993240"/>
          </a:xfrm>
        </p:grpSpPr>
        <p:grpSp>
          <p:nvGrpSpPr>
            <p:cNvPr id="373" name=""/>
            <p:cNvGrpSpPr/>
            <p:nvPr/>
          </p:nvGrpSpPr>
          <p:grpSpPr>
            <a:xfrm>
              <a:off x="4267080" y="4263840"/>
              <a:ext cx="877680" cy="917280"/>
              <a:chOff x="4267080" y="4263840"/>
              <a:chExt cx="877680" cy="917280"/>
            </a:xfrm>
          </p:grpSpPr>
          <p:sp>
            <p:nvSpPr>
              <p:cNvPr id="374" name=""/>
              <p:cNvSpPr/>
              <p:nvPr/>
            </p:nvSpPr>
            <p:spPr>
              <a:xfrm>
                <a:off x="4267080" y="4263840"/>
                <a:ext cx="837720" cy="7977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86400" y="4622760"/>
                <a:ext cx="558360" cy="5583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4647960" y="4187880"/>
              <a:ext cx="304920" cy="3045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320" y="5791320"/>
            <a:ext cx="906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It is seaweed. We like ….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20120" y="562284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525780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0430400">
            <a:off x="4876560" y="2282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0430400">
            <a:off x="8077320" y="380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430400">
            <a:off x="6850800" y="4571640"/>
            <a:ext cx="114948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3124080" y="3581280"/>
            <a:ext cx="4438800" cy="20574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5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6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7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8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9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0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1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2"/>
          <a:stretch/>
        </p:blipFill>
        <p:spPr>
          <a:xfrm>
            <a:off x="7972560" y="4267080"/>
            <a:ext cx="1171440" cy="2057400"/>
          </a:xfrm>
          <a:prstGeom prst="rect">
            <a:avLst/>
          </a:prstGeom>
          <a:ln w="0">
            <a:noFill/>
          </a:ln>
        </p:spPr>
      </p:pic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3"/>
          <a:stretch/>
        </p:blipFill>
        <p:spPr>
          <a:xfrm>
            <a:off x="3657600" y="2590920"/>
            <a:ext cx="704880" cy="11430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 rot="10430400">
            <a:off x="3809880" y="2653920"/>
            <a:ext cx="1841760" cy="184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4"/>
          <a:stretch/>
        </p:blipFill>
        <p:spPr>
          <a:xfrm>
            <a:off x="2438280" y="29718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5"/>
          <a:stretch/>
        </p:blipFill>
        <p:spPr>
          <a:xfrm>
            <a:off x="2057400" y="106668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6"/>
          <a:stretch/>
        </p:blipFill>
        <p:spPr>
          <a:xfrm>
            <a:off x="304920" y="220968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7"/>
          <a:stretch/>
        </p:blipFill>
        <p:spPr>
          <a:xfrm>
            <a:off x="0" y="3733920"/>
            <a:ext cx="1171440" cy="20574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 rot="10800000">
            <a:off x="963720" y="4800600"/>
            <a:ext cx="2084400" cy="73512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3846600" y="3276720"/>
            <a:ext cx="877680" cy="993240"/>
            <a:chOff x="3846600" y="3276720"/>
            <a:chExt cx="877680" cy="993240"/>
          </a:xfrm>
        </p:grpSpPr>
        <p:grpSp>
          <p:nvGrpSpPr>
            <p:cNvPr id="404" name=""/>
            <p:cNvGrpSpPr/>
            <p:nvPr/>
          </p:nvGrpSpPr>
          <p:grpSpPr>
            <a:xfrm>
              <a:off x="3846600" y="3352680"/>
              <a:ext cx="877680" cy="917280"/>
              <a:chOff x="3846600" y="3352680"/>
              <a:chExt cx="877680" cy="917280"/>
            </a:xfrm>
          </p:grpSpPr>
          <p:sp>
            <p:nvSpPr>
              <p:cNvPr id="405" name=""/>
              <p:cNvSpPr/>
              <p:nvPr/>
            </p:nvSpPr>
            <p:spPr>
              <a:xfrm>
                <a:off x="3846600" y="3352680"/>
                <a:ext cx="837720" cy="7977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165920" y="3711600"/>
                <a:ext cx="558360" cy="5583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4227480" y="3276720"/>
              <a:ext cx="304920" cy="3045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02000" y="4826160"/>
            <a:ext cx="2358720" cy="1141920"/>
            <a:chOff x="702000" y="4826160"/>
            <a:chExt cx="2358720" cy="1141920"/>
          </a:xfrm>
        </p:grpSpPr>
        <p:grpSp>
          <p:nvGrpSpPr>
            <p:cNvPr id="409" name=""/>
            <p:cNvGrpSpPr/>
            <p:nvPr/>
          </p:nvGrpSpPr>
          <p:grpSpPr>
            <a:xfrm>
              <a:off x="702000" y="4938840"/>
              <a:ext cx="1127880" cy="1029240"/>
              <a:chOff x="702000" y="4938840"/>
              <a:chExt cx="1127880" cy="102924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702000" y="4938840"/>
                <a:ext cx="1127880" cy="1029240"/>
                <a:chOff x="702000" y="4938840"/>
                <a:chExt cx="1127880" cy="1029240"/>
              </a:xfrm>
            </p:grpSpPr>
            <p:sp>
              <p:nvSpPr>
                <p:cNvPr id="411" name=""/>
                <p:cNvSpPr/>
                <p:nvPr/>
              </p:nvSpPr>
              <p:spPr>
                <a:xfrm rot="17186400">
                  <a:off x="784080" y="505440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17186400">
                  <a:off x="1203840" y="50695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 rot="17186400">
                <a:off x="773640" y="51001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1778040" y="4826160"/>
              <a:ext cx="1241280" cy="1131840"/>
              <a:chOff x="1778040" y="4826160"/>
              <a:chExt cx="1241280" cy="113184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1778040" y="4826160"/>
                <a:ext cx="1241280" cy="1131840"/>
                <a:chOff x="1778040" y="4826160"/>
                <a:chExt cx="1241280" cy="1131840"/>
              </a:xfrm>
            </p:grpSpPr>
            <p:sp>
              <p:nvSpPr>
                <p:cNvPr id="416" name=""/>
                <p:cNvSpPr/>
                <p:nvPr/>
              </p:nvSpPr>
              <p:spPr>
                <a:xfrm rot="7297200">
                  <a:off x="2040840" y="49928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rot="7297200">
                  <a:off x="1882800" y="51404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 rot="7297200">
                <a:off x="2522160" y="55062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 rot="17186400">
              <a:off x="2718720" y="523836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76320" y="2971800"/>
            <a:ext cx="5076720" cy="29145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0" y="5810400"/>
            <a:ext cx="8915400" cy="10476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7543800" y="4267080"/>
            <a:ext cx="1409760" cy="2286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>
            <a:off x="228600" y="0"/>
            <a:ext cx="8915400" cy="12096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145840" y="3916800"/>
            <a:ext cx="2074680" cy="1874880"/>
            <a:chOff x="5145840" y="3916800"/>
            <a:chExt cx="2074680" cy="1874880"/>
          </a:xfrm>
        </p:grpSpPr>
        <p:grpSp>
          <p:nvGrpSpPr>
            <p:cNvPr id="429" name=""/>
            <p:cNvGrpSpPr/>
            <p:nvPr/>
          </p:nvGrpSpPr>
          <p:grpSpPr>
            <a:xfrm>
              <a:off x="5145840" y="3916800"/>
              <a:ext cx="1232640" cy="1122480"/>
              <a:chOff x="5145840" y="3916800"/>
              <a:chExt cx="1232640" cy="112248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5145840" y="3916800"/>
                <a:ext cx="1232640" cy="1122480"/>
                <a:chOff x="5145840" y="3916800"/>
                <a:chExt cx="1232640" cy="1122480"/>
              </a:xfrm>
            </p:grpSpPr>
            <p:sp>
              <p:nvSpPr>
                <p:cNvPr id="431" name=""/>
                <p:cNvSpPr/>
                <p:nvPr/>
              </p:nvSpPr>
              <p:spPr>
                <a:xfrm rot="19656600">
                  <a:off x="5294160" y="407916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9656600">
                  <a:off x="5713560" y="43045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 rot="19656600">
                <a:off x="5484240" y="39920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6108120" y="4734720"/>
              <a:ext cx="1109520" cy="1056960"/>
              <a:chOff x="6108120" y="4734720"/>
              <a:chExt cx="1109520" cy="105696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6108120" y="4734720"/>
                <a:ext cx="1109520" cy="1029960"/>
                <a:chOff x="6108120" y="4734720"/>
                <a:chExt cx="1109520" cy="1029960"/>
              </a:xfrm>
            </p:grpSpPr>
            <p:sp>
              <p:nvSpPr>
                <p:cNvPr id="436" name=""/>
                <p:cNvSpPr/>
                <p:nvPr/>
              </p:nvSpPr>
              <p:spPr>
                <a:xfrm rot="9768000">
                  <a:off x="6280560" y="48607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9768000">
                  <a:off x="6177960" y="48049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 rot="9768000">
                <a:off x="6532920" y="544896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 rot="19656600">
              <a:off x="6857280" y="537696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57913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Hush! Don’t tell ………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72200" y="562284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525780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0430400">
            <a:off x="4876560" y="2282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10430400">
            <a:off x="7619760" y="5334120"/>
            <a:ext cx="1149120" cy="114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28800" y="1085760"/>
            <a:ext cx="685800" cy="1123920"/>
          </a:xfrm>
          <a:custGeom>
            <a:avLst/>
            <a:gdLst/>
            <a:ahLst/>
            <a:rect l="l" t="t" r="r" b="b"/>
            <a:pathLst>
              <a:path w="727" h="1284">
                <a:moveTo>
                  <a:pt x="467" y="1202"/>
                </a:moveTo>
                <a:cubicBezTo>
                  <a:pt x="455" y="1242"/>
                  <a:pt x="526" y="1236"/>
                  <a:pt x="495" y="1264"/>
                </a:cubicBezTo>
                <a:cubicBezTo>
                  <a:pt x="474" y="1283"/>
                  <a:pt x="451" y="1267"/>
                  <a:pt x="423" y="1264"/>
                </a:cubicBezTo>
                <a:cubicBezTo>
                  <a:pt x="392" y="1243"/>
                  <a:pt x="394" y="1284"/>
                  <a:pt x="373" y="1284"/>
                </a:cubicBezTo>
                <a:cubicBezTo>
                  <a:pt x="356" y="1229"/>
                  <a:pt x="428" y="1085"/>
                  <a:pt x="411" y="1018"/>
                </a:cubicBezTo>
                <a:cubicBezTo>
                  <a:pt x="409" y="960"/>
                  <a:pt x="387" y="933"/>
                  <a:pt x="373" y="914"/>
                </a:cubicBezTo>
                <a:cubicBezTo>
                  <a:pt x="353" y="889"/>
                  <a:pt x="309" y="884"/>
                  <a:pt x="291" y="870"/>
                </a:cubicBezTo>
                <a:cubicBezTo>
                  <a:pt x="273" y="856"/>
                  <a:pt x="274" y="845"/>
                  <a:pt x="263" y="828"/>
                </a:cubicBezTo>
                <a:cubicBezTo>
                  <a:pt x="252" y="811"/>
                  <a:pt x="246" y="796"/>
                  <a:pt x="223" y="766"/>
                </a:cubicBezTo>
                <a:cubicBezTo>
                  <a:pt x="169" y="729"/>
                  <a:pt x="163" y="697"/>
                  <a:pt x="125" y="646"/>
                </a:cubicBezTo>
                <a:cubicBezTo>
                  <a:pt x="110" y="605"/>
                  <a:pt x="20" y="598"/>
                  <a:pt x="5" y="557"/>
                </a:cubicBezTo>
                <a:cubicBezTo>
                  <a:pt x="8" y="529"/>
                  <a:pt x="0" y="496"/>
                  <a:pt x="15" y="472"/>
                </a:cubicBezTo>
                <a:cubicBezTo>
                  <a:pt x="26" y="455"/>
                  <a:pt x="71" y="453"/>
                  <a:pt x="71" y="453"/>
                </a:cubicBezTo>
                <a:cubicBezTo>
                  <a:pt x="81" y="456"/>
                  <a:pt x="95" y="453"/>
                  <a:pt x="100" y="462"/>
                </a:cubicBezTo>
                <a:cubicBezTo>
                  <a:pt x="113" y="485"/>
                  <a:pt x="116" y="572"/>
                  <a:pt x="137" y="604"/>
                </a:cubicBezTo>
                <a:cubicBezTo>
                  <a:pt x="155" y="631"/>
                  <a:pt x="186" y="661"/>
                  <a:pt x="213" y="679"/>
                </a:cubicBezTo>
                <a:cubicBezTo>
                  <a:pt x="219" y="689"/>
                  <a:pt x="224" y="700"/>
                  <a:pt x="232" y="708"/>
                </a:cubicBezTo>
                <a:cubicBezTo>
                  <a:pt x="240" y="716"/>
                  <a:pt x="253" y="718"/>
                  <a:pt x="260" y="727"/>
                </a:cubicBezTo>
                <a:cubicBezTo>
                  <a:pt x="288" y="761"/>
                  <a:pt x="262" y="774"/>
                  <a:pt x="317" y="793"/>
                </a:cubicBezTo>
                <a:cubicBezTo>
                  <a:pt x="301" y="768"/>
                  <a:pt x="286" y="742"/>
                  <a:pt x="270" y="717"/>
                </a:cubicBezTo>
                <a:cubicBezTo>
                  <a:pt x="264" y="707"/>
                  <a:pt x="251" y="689"/>
                  <a:pt x="251" y="689"/>
                </a:cubicBezTo>
                <a:cubicBezTo>
                  <a:pt x="231" y="594"/>
                  <a:pt x="260" y="677"/>
                  <a:pt x="213" y="623"/>
                </a:cubicBezTo>
                <a:cubicBezTo>
                  <a:pt x="198" y="606"/>
                  <a:pt x="175" y="566"/>
                  <a:pt x="175" y="566"/>
                </a:cubicBezTo>
                <a:cubicBezTo>
                  <a:pt x="165" y="535"/>
                  <a:pt x="148" y="511"/>
                  <a:pt x="137" y="481"/>
                </a:cubicBezTo>
                <a:cubicBezTo>
                  <a:pt x="128" y="418"/>
                  <a:pt x="132" y="401"/>
                  <a:pt x="90" y="358"/>
                </a:cubicBezTo>
                <a:cubicBezTo>
                  <a:pt x="84" y="338"/>
                  <a:pt x="67" y="302"/>
                  <a:pt x="90" y="283"/>
                </a:cubicBezTo>
                <a:cubicBezTo>
                  <a:pt x="100" y="275"/>
                  <a:pt x="115" y="289"/>
                  <a:pt x="128" y="292"/>
                </a:cubicBezTo>
                <a:cubicBezTo>
                  <a:pt x="141" y="347"/>
                  <a:pt x="161" y="399"/>
                  <a:pt x="175" y="453"/>
                </a:cubicBezTo>
                <a:cubicBezTo>
                  <a:pt x="182" y="481"/>
                  <a:pt x="176" y="515"/>
                  <a:pt x="194" y="538"/>
                </a:cubicBezTo>
                <a:cubicBezTo>
                  <a:pt x="209" y="558"/>
                  <a:pt x="233" y="568"/>
                  <a:pt x="251" y="585"/>
                </a:cubicBezTo>
                <a:cubicBezTo>
                  <a:pt x="272" y="555"/>
                  <a:pt x="280" y="558"/>
                  <a:pt x="260" y="519"/>
                </a:cubicBezTo>
                <a:cubicBezTo>
                  <a:pt x="250" y="499"/>
                  <a:pt x="222" y="462"/>
                  <a:pt x="222" y="462"/>
                </a:cubicBezTo>
                <a:cubicBezTo>
                  <a:pt x="210" y="424"/>
                  <a:pt x="176" y="357"/>
                  <a:pt x="161" y="328"/>
                </a:cubicBezTo>
                <a:cubicBezTo>
                  <a:pt x="155" y="316"/>
                  <a:pt x="166" y="292"/>
                  <a:pt x="156" y="283"/>
                </a:cubicBezTo>
                <a:cubicBezTo>
                  <a:pt x="142" y="239"/>
                  <a:pt x="114" y="204"/>
                  <a:pt x="100" y="160"/>
                </a:cubicBezTo>
                <a:cubicBezTo>
                  <a:pt x="91" y="127"/>
                  <a:pt x="80" y="103"/>
                  <a:pt x="81" y="84"/>
                </a:cubicBezTo>
                <a:cubicBezTo>
                  <a:pt x="80" y="66"/>
                  <a:pt x="89" y="51"/>
                  <a:pt x="95" y="50"/>
                </a:cubicBezTo>
                <a:cubicBezTo>
                  <a:pt x="97" y="40"/>
                  <a:pt x="116" y="65"/>
                  <a:pt x="118" y="75"/>
                </a:cubicBezTo>
                <a:cubicBezTo>
                  <a:pt x="123" y="100"/>
                  <a:pt x="120" y="127"/>
                  <a:pt x="128" y="151"/>
                </a:cubicBezTo>
                <a:cubicBezTo>
                  <a:pt x="133" y="166"/>
                  <a:pt x="147" y="176"/>
                  <a:pt x="156" y="188"/>
                </a:cubicBezTo>
                <a:cubicBezTo>
                  <a:pt x="182" y="264"/>
                  <a:pt x="168" y="374"/>
                  <a:pt x="241" y="424"/>
                </a:cubicBezTo>
                <a:cubicBezTo>
                  <a:pt x="268" y="324"/>
                  <a:pt x="266" y="232"/>
                  <a:pt x="194" y="160"/>
                </a:cubicBezTo>
                <a:cubicBezTo>
                  <a:pt x="177" y="108"/>
                  <a:pt x="180" y="106"/>
                  <a:pt x="232" y="94"/>
                </a:cubicBezTo>
                <a:cubicBezTo>
                  <a:pt x="269" y="148"/>
                  <a:pt x="239" y="95"/>
                  <a:pt x="260" y="188"/>
                </a:cubicBezTo>
                <a:cubicBezTo>
                  <a:pt x="264" y="208"/>
                  <a:pt x="275" y="225"/>
                  <a:pt x="279" y="245"/>
                </a:cubicBezTo>
                <a:cubicBezTo>
                  <a:pt x="282" y="261"/>
                  <a:pt x="285" y="276"/>
                  <a:pt x="288" y="292"/>
                </a:cubicBezTo>
                <a:cubicBezTo>
                  <a:pt x="295" y="474"/>
                  <a:pt x="293" y="524"/>
                  <a:pt x="326" y="660"/>
                </a:cubicBezTo>
                <a:cubicBezTo>
                  <a:pt x="341" y="550"/>
                  <a:pt x="355" y="488"/>
                  <a:pt x="365" y="392"/>
                </a:cubicBezTo>
                <a:cubicBezTo>
                  <a:pt x="364" y="325"/>
                  <a:pt x="365" y="312"/>
                  <a:pt x="365" y="284"/>
                </a:cubicBezTo>
                <a:cubicBezTo>
                  <a:pt x="372" y="256"/>
                  <a:pt x="400" y="249"/>
                  <a:pt x="409" y="224"/>
                </a:cubicBezTo>
                <a:cubicBezTo>
                  <a:pt x="412" y="199"/>
                  <a:pt x="419" y="163"/>
                  <a:pt x="421" y="132"/>
                </a:cubicBezTo>
                <a:cubicBezTo>
                  <a:pt x="417" y="102"/>
                  <a:pt x="381" y="64"/>
                  <a:pt x="385" y="42"/>
                </a:cubicBezTo>
                <a:cubicBezTo>
                  <a:pt x="391" y="23"/>
                  <a:pt x="422" y="3"/>
                  <a:pt x="443" y="2"/>
                </a:cubicBezTo>
                <a:cubicBezTo>
                  <a:pt x="464" y="1"/>
                  <a:pt x="507" y="0"/>
                  <a:pt x="509" y="38"/>
                </a:cubicBezTo>
                <a:cubicBezTo>
                  <a:pt x="511" y="76"/>
                  <a:pt x="485" y="33"/>
                  <a:pt x="469" y="86"/>
                </a:cubicBezTo>
                <a:cubicBezTo>
                  <a:pt x="453" y="139"/>
                  <a:pt x="422" y="256"/>
                  <a:pt x="411" y="358"/>
                </a:cubicBezTo>
                <a:cubicBezTo>
                  <a:pt x="372" y="484"/>
                  <a:pt x="395" y="504"/>
                  <a:pt x="402" y="698"/>
                </a:cubicBezTo>
                <a:cubicBezTo>
                  <a:pt x="415" y="751"/>
                  <a:pt x="418" y="736"/>
                  <a:pt x="429" y="676"/>
                </a:cubicBezTo>
                <a:cubicBezTo>
                  <a:pt x="440" y="616"/>
                  <a:pt x="458" y="408"/>
                  <a:pt x="468" y="339"/>
                </a:cubicBezTo>
                <a:cubicBezTo>
                  <a:pt x="470" y="313"/>
                  <a:pt x="481" y="289"/>
                  <a:pt x="487" y="264"/>
                </a:cubicBezTo>
                <a:cubicBezTo>
                  <a:pt x="492" y="242"/>
                  <a:pt x="486" y="218"/>
                  <a:pt x="496" y="198"/>
                </a:cubicBezTo>
                <a:cubicBezTo>
                  <a:pt x="500" y="190"/>
                  <a:pt x="550" y="158"/>
                  <a:pt x="562" y="151"/>
                </a:cubicBezTo>
                <a:cubicBezTo>
                  <a:pt x="588" y="202"/>
                  <a:pt x="584" y="224"/>
                  <a:pt x="543" y="264"/>
                </a:cubicBezTo>
                <a:cubicBezTo>
                  <a:pt x="518" y="371"/>
                  <a:pt x="533" y="481"/>
                  <a:pt x="496" y="585"/>
                </a:cubicBezTo>
                <a:cubicBezTo>
                  <a:pt x="499" y="620"/>
                  <a:pt x="493" y="657"/>
                  <a:pt x="506" y="689"/>
                </a:cubicBezTo>
                <a:cubicBezTo>
                  <a:pt x="510" y="700"/>
                  <a:pt x="520" y="671"/>
                  <a:pt x="525" y="660"/>
                </a:cubicBezTo>
                <a:cubicBezTo>
                  <a:pt x="530" y="648"/>
                  <a:pt x="531" y="635"/>
                  <a:pt x="534" y="623"/>
                </a:cubicBezTo>
                <a:cubicBezTo>
                  <a:pt x="541" y="547"/>
                  <a:pt x="534" y="470"/>
                  <a:pt x="591" y="415"/>
                </a:cubicBezTo>
                <a:cubicBezTo>
                  <a:pt x="611" y="310"/>
                  <a:pt x="570" y="340"/>
                  <a:pt x="591" y="282"/>
                </a:cubicBezTo>
                <a:cubicBezTo>
                  <a:pt x="594" y="260"/>
                  <a:pt x="628" y="204"/>
                  <a:pt x="628" y="226"/>
                </a:cubicBezTo>
                <a:cubicBezTo>
                  <a:pt x="627" y="226"/>
                  <a:pt x="687" y="203"/>
                  <a:pt x="701" y="214"/>
                </a:cubicBezTo>
                <a:cubicBezTo>
                  <a:pt x="715" y="225"/>
                  <a:pt x="727" y="263"/>
                  <a:pt x="713" y="292"/>
                </a:cubicBezTo>
                <a:cubicBezTo>
                  <a:pt x="699" y="321"/>
                  <a:pt x="638" y="357"/>
                  <a:pt x="619" y="387"/>
                </a:cubicBezTo>
                <a:cubicBezTo>
                  <a:pt x="616" y="416"/>
                  <a:pt x="605" y="443"/>
                  <a:pt x="600" y="472"/>
                </a:cubicBezTo>
                <a:cubicBezTo>
                  <a:pt x="606" y="557"/>
                  <a:pt x="630" y="717"/>
                  <a:pt x="543" y="774"/>
                </a:cubicBezTo>
                <a:cubicBezTo>
                  <a:pt x="568" y="843"/>
                  <a:pt x="532" y="773"/>
                  <a:pt x="581" y="783"/>
                </a:cubicBezTo>
                <a:cubicBezTo>
                  <a:pt x="592" y="785"/>
                  <a:pt x="594" y="802"/>
                  <a:pt x="600" y="812"/>
                </a:cubicBezTo>
                <a:cubicBezTo>
                  <a:pt x="597" y="828"/>
                  <a:pt x="599" y="845"/>
                  <a:pt x="591" y="859"/>
                </a:cubicBezTo>
                <a:cubicBezTo>
                  <a:pt x="585" y="869"/>
                  <a:pt x="414" y="864"/>
                  <a:pt x="469" y="932"/>
                </a:cubicBezTo>
                <a:cubicBezTo>
                  <a:pt x="456" y="987"/>
                  <a:pt x="472" y="1145"/>
                  <a:pt x="467" y="1202"/>
                </a:cubicBezTo>
                <a:close/>
              </a:path>
            </a:pathLst>
          </a:cu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10430400">
            <a:off x="1523520" y="1218600"/>
            <a:ext cx="106704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0430400">
            <a:off x="8077320" y="380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6"/>
          <a:stretch/>
        </p:blipFill>
        <p:spPr>
          <a:xfrm>
            <a:off x="6362640" y="3600360"/>
            <a:ext cx="1790640" cy="135252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 rot="10430400">
            <a:off x="5930640" y="3504960"/>
            <a:ext cx="1841400" cy="184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3962520"/>
            <a:ext cx="2084400" cy="73476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7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8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9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0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1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2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3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4"/>
          <a:stretch/>
        </p:blipFill>
        <p:spPr>
          <a:xfrm>
            <a:off x="380880" y="23623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5"/>
          <a:stretch/>
        </p:blipFill>
        <p:spPr>
          <a:xfrm>
            <a:off x="4952880" y="29718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16"/>
          <a:stretch/>
        </p:blipFill>
        <p:spPr>
          <a:xfrm>
            <a:off x="8153280" y="838080"/>
            <a:ext cx="7048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3445200" y="3378240"/>
            <a:ext cx="2358720" cy="1141920"/>
            <a:chOff x="3445200" y="3378240"/>
            <a:chExt cx="2358720" cy="1141920"/>
          </a:xfrm>
        </p:grpSpPr>
        <p:grpSp>
          <p:nvGrpSpPr>
            <p:cNvPr id="468" name=""/>
            <p:cNvGrpSpPr/>
            <p:nvPr/>
          </p:nvGrpSpPr>
          <p:grpSpPr>
            <a:xfrm>
              <a:off x="3445200" y="3490920"/>
              <a:ext cx="1127880" cy="1029240"/>
              <a:chOff x="3445200" y="3490920"/>
              <a:chExt cx="1127880" cy="102924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3445200" y="3490920"/>
                <a:ext cx="1127880" cy="1029240"/>
                <a:chOff x="3445200" y="3490920"/>
                <a:chExt cx="1127880" cy="1029240"/>
              </a:xfrm>
            </p:grpSpPr>
            <p:sp>
              <p:nvSpPr>
                <p:cNvPr id="470" name=""/>
                <p:cNvSpPr/>
                <p:nvPr/>
              </p:nvSpPr>
              <p:spPr>
                <a:xfrm rot="17186400">
                  <a:off x="3527280" y="36064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186400">
                  <a:off x="3947040" y="36216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 rot="17186400">
                <a:off x="3516840" y="36522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4521240" y="3378240"/>
              <a:ext cx="1241280" cy="1131840"/>
              <a:chOff x="4521240" y="3378240"/>
              <a:chExt cx="1241280" cy="113184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4521240" y="3378240"/>
                <a:ext cx="1241280" cy="1131840"/>
                <a:chOff x="4521240" y="3378240"/>
                <a:chExt cx="1241280" cy="1131840"/>
              </a:xfrm>
            </p:grpSpPr>
            <p:sp>
              <p:nvSpPr>
                <p:cNvPr id="475" name=""/>
                <p:cNvSpPr/>
                <p:nvPr/>
              </p:nvSpPr>
              <p:spPr>
                <a:xfrm rot="7297200">
                  <a:off x="4784040" y="35449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rot="7297200">
                  <a:off x="4626000" y="36925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 rot="7297200">
                <a:off x="5265360" y="40582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 rot="17186400">
              <a:off x="5461920" y="37904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6616800" y="3650040"/>
            <a:ext cx="1845360" cy="2120040"/>
            <a:chOff x="6616800" y="3650040"/>
            <a:chExt cx="1845360" cy="2120040"/>
          </a:xfrm>
        </p:grpSpPr>
        <p:grpSp>
          <p:nvGrpSpPr>
            <p:cNvPr id="480" name=""/>
            <p:cNvGrpSpPr/>
            <p:nvPr/>
          </p:nvGrpSpPr>
          <p:grpSpPr>
            <a:xfrm>
              <a:off x="6616800" y="4527000"/>
              <a:ext cx="1132560" cy="1243080"/>
              <a:chOff x="6616800" y="4527000"/>
              <a:chExt cx="1132560" cy="124308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6616800" y="4527000"/>
                <a:ext cx="1132560" cy="1243080"/>
                <a:chOff x="6616800" y="4527000"/>
                <a:chExt cx="1132560" cy="1243080"/>
              </a:xfrm>
            </p:grpSpPr>
            <p:sp>
              <p:nvSpPr>
                <p:cNvPr id="482" name=""/>
                <p:cNvSpPr/>
                <p:nvPr/>
              </p:nvSpPr>
              <p:spPr>
                <a:xfrm rot="14123400">
                  <a:off x="6764040" y="47998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14123400">
                  <a:off x="6998400" y="46357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 rot="14123400">
                <a:off x="6699960" y="51354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7403400" y="3655080"/>
              <a:ext cx="1058760" cy="1132920"/>
              <a:chOff x="7403400" y="3655080"/>
              <a:chExt cx="1058760" cy="113292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7403400" y="3655080"/>
                <a:ext cx="1037880" cy="1132920"/>
                <a:chOff x="7403400" y="3655080"/>
                <a:chExt cx="1037880" cy="1132920"/>
              </a:xfrm>
            </p:grpSpPr>
            <p:sp>
              <p:nvSpPr>
                <p:cNvPr id="487" name=""/>
                <p:cNvSpPr/>
                <p:nvPr/>
              </p:nvSpPr>
              <p:spPr>
                <a:xfrm rot="4234800">
                  <a:off x="7506720" y="378360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4234800">
                  <a:off x="7480080" y="41526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 rot="4234800">
                <a:off x="8115120" y="40312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 rot="14123400">
              <a:off x="8030520" y="37094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152280" y="5810400"/>
            <a:ext cx="8915400" cy="10476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7772400" y="4114800"/>
            <a:ext cx="1171440" cy="20574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692360" y="4749840"/>
            <a:ext cx="2358720" cy="1141920"/>
            <a:chOff x="1692360" y="4749840"/>
            <a:chExt cx="2358720" cy="1141920"/>
          </a:xfrm>
        </p:grpSpPr>
        <p:grpSp>
          <p:nvGrpSpPr>
            <p:cNvPr id="495" name=""/>
            <p:cNvGrpSpPr/>
            <p:nvPr/>
          </p:nvGrpSpPr>
          <p:grpSpPr>
            <a:xfrm>
              <a:off x="1692360" y="4862520"/>
              <a:ext cx="1127880" cy="1029240"/>
              <a:chOff x="1692360" y="4862520"/>
              <a:chExt cx="1127880" cy="102924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1692360" y="4862520"/>
                <a:ext cx="1127880" cy="1029240"/>
                <a:chOff x="1692360" y="4862520"/>
                <a:chExt cx="1127880" cy="1029240"/>
              </a:xfrm>
            </p:grpSpPr>
            <p:sp>
              <p:nvSpPr>
                <p:cNvPr id="497" name=""/>
                <p:cNvSpPr/>
                <p:nvPr/>
              </p:nvSpPr>
              <p:spPr>
                <a:xfrm rot="17186400">
                  <a:off x="1774440" y="49780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rot="17186400">
                  <a:off x="2194200" y="49932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 rot="17186400">
                <a:off x="1764000" y="50238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2768400" y="4749840"/>
              <a:ext cx="1241280" cy="1131840"/>
              <a:chOff x="2768400" y="4749840"/>
              <a:chExt cx="1241280" cy="113184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2768400" y="4749840"/>
                <a:ext cx="1241280" cy="1131840"/>
                <a:chOff x="2768400" y="4749840"/>
                <a:chExt cx="1241280" cy="1131840"/>
              </a:xfrm>
            </p:grpSpPr>
            <p:sp>
              <p:nvSpPr>
                <p:cNvPr id="502" name=""/>
                <p:cNvSpPr/>
                <p:nvPr/>
              </p:nvSpPr>
              <p:spPr>
                <a:xfrm rot="7297200">
                  <a:off x="3031200" y="4916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7297200">
                  <a:off x="2873160" y="50641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 rot="7297200">
                <a:off x="3512520" y="54298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 rot="17186400">
              <a:off x="3709080" y="51620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457200" y="3048120"/>
            <a:ext cx="6648480" cy="27432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5"/>
          <a:stretch/>
        </p:blipFill>
        <p:spPr>
          <a:xfrm>
            <a:off x="228600" y="0"/>
            <a:ext cx="8915400" cy="12096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666880" y="3581280"/>
            <a:ext cx="878040" cy="917280"/>
            <a:chOff x="2666880" y="3581280"/>
            <a:chExt cx="878040" cy="917280"/>
          </a:xfrm>
        </p:grpSpPr>
        <p:sp>
          <p:nvSpPr>
            <p:cNvPr id="514" name=""/>
            <p:cNvSpPr/>
            <p:nvPr/>
          </p:nvSpPr>
          <p:spPr>
            <a:xfrm>
              <a:off x="2666880" y="3581280"/>
              <a:ext cx="838080" cy="797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86200" y="3940200"/>
              <a:ext cx="558720" cy="5583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320" y="5791320"/>
            <a:ext cx="906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We’re twins. They love …… 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86600" y="55627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86200" y="525780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10430400">
            <a:off x="4876560" y="2282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10430400">
            <a:off x="8077320" y="380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8947200">
            <a:off x="2895120" y="3733560"/>
            <a:ext cx="2084400" cy="73476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3681600">
            <a:off x="2933640" y="3798720"/>
            <a:ext cx="2084400" cy="73512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8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9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0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1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12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13"/>
          <a:stretch/>
        </p:blipFill>
        <p:spPr>
          <a:xfrm>
            <a:off x="8153280" y="9907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14"/>
          <a:stretch/>
        </p:blipFill>
        <p:spPr>
          <a:xfrm>
            <a:off x="4800600" y="27432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15"/>
          <a:stretch/>
        </p:blipFill>
        <p:spPr>
          <a:xfrm>
            <a:off x="2362320" y="25909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6"/>
          <a:stretch/>
        </p:blipFill>
        <p:spPr>
          <a:xfrm>
            <a:off x="2133720" y="106668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7"/>
          <a:stretch/>
        </p:blipFill>
        <p:spPr>
          <a:xfrm>
            <a:off x="380880" y="2819520"/>
            <a:ext cx="7048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3533400" y="3136680"/>
            <a:ext cx="1585800" cy="2137320"/>
            <a:chOff x="3533400" y="3136680"/>
            <a:chExt cx="1585800" cy="2137320"/>
          </a:xfrm>
        </p:grpSpPr>
        <p:grpSp>
          <p:nvGrpSpPr>
            <p:cNvPr id="540" name=""/>
            <p:cNvGrpSpPr/>
            <p:nvPr/>
          </p:nvGrpSpPr>
          <p:grpSpPr>
            <a:xfrm>
              <a:off x="3533400" y="3136680"/>
              <a:ext cx="1049400" cy="1047600"/>
              <a:chOff x="3533400" y="3136680"/>
              <a:chExt cx="1049400" cy="104760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3533400" y="3179160"/>
                <a:ext cx="1049400" cy="1005120"/>
                <a:chOff x="3533400" y="3179160"/>
                <a:chExt cx="1049400" cy="1005120"/>
              </a:xfrm>
            </p:grpSpPr>
            <p:sp>
              <p:nvSpPr>
                <p:cNvPr id="542" name=""/>
                <p:cNvSpPr/>
                <p:nvPr/>
              </p:nvSpPr>
              <p:spPr>
                <a:xfrm rot="20878800">
                  <a:off x="3607200" y="32576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rot="20878800">
                  <a:off x="3972240" y="35737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 rot="20878800">
                <a:off x="3918240" y="316476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4218480" y="4189680"/>
              <a:ext cx="900720" cy="1018800"/>
              <a:chOff x="4218480" y="4189680"/>
              <a:chExt cx="900720" cy="10188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4218480" y="4189680"/>
                <a:ext cx="900720" cy="964440"/>
                <a:chOff x="4218480" y="4189680"/>
                <a:chExt cx="900720" cy="964440"/>
              </a:xfrm>
            </p:grpSpPr>
            <p:sp>
              <p:nvSpPr>
                <p:cNvPr id="547" name=""/>
                <p:cNvSpPr/>
                <p:nvPr/>
              </p:nvSpPr>
              <p:spPr>
                <a:xfrm rot="10990200">
                  <a:off x="4259880" y="43336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rot="10990200">
                  <a:off x="4233600" y="42044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 rot="10990200">
                <a:off x="4394520" y="48956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20878800">
              <a:off x="4723200" y="49406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76320" y="5791320"/>
            <a:ext cx="8915400" cy="10476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7696080" y="4495680"/>
            <a:ext cx="1171800" cy="20574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8915400" cy="12096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540480" y="3650040"/>
            <a:ext cx="1845360" cy="2120040"/>
            <a:chOff x="6540480" y="3650040"/>
            <a:chExt cx="1845360" cy="2120040"/>
          </a:xfrm>
        </p:grpSpPr>
        <p:grpSp>
          <p:nvGrpSpPr>
            <p:cNvPr id="559" name=""/>
            <p:cNvGrpSpPr/>
            <p:nvPr/>
          </p:nvGrpSpPr>
          <p:grpSpPr>
            <a:xfrm>
              <a:off x="6540480" y="4527000"/>
              <a:ext cx="1132560" cy="1243080"/>
              <a:chOff x="6540480" y="4527000"/>
              <a:chExt cx="1132560" cy="124308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6540480" y="4527000"/>
                <a:ext cx="1132560" cy="1243080"/>
                <a:chOff x="6540480" y="4527000"/>
                <a:chExt cx="1132560" cy="1243080"/>
              </a:xfrm>
            </p:grpSpPr>
            <p:sp>
              <p:nvSpPr>
                <p:cNvPr id="561" name=""/>
                <p:cNvSpPr/>
                <p:nvPr/>
              </p:nvSpPr>
              <p:spPr>
                <a:xfrm rot="14123400">
                  <a:off x="6687720" y="47998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rot="14123400">
                  <a:off x="6922080" y="46357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 rot="14123400">
                <a:off x="6623640" y="51354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7327080" y="3655080"/>
              <a:ext cx="1058760" cy="1132920"/>
              <a:chOff x="7327080" y="3655080"/>
              <a:chExt cx="1058760" cy="113292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7327080" y="3655080"/>
                <a:ext cx="1037880" cy="1132920"/>
                <a:chOff x="7327080" y="3655080"/>
                <a:chExt cx="1037880" cy="1132920"/>
              </a:xfrm>
            </p:grpSpPr>
            <p:sp>
              <p:nvSpPr>
                <p:cNvPr id="566" name=""/>
                <p:cNvSpPr/>
                <p:nvPr/>
              </p:nvSpPr>
              <p:spPr>
                <a:xfrm rot="4234800">
                  <a:off x="7430400" y="378360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4234800">
                  <a:off x="7403760" y="41526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 rot="4234800">
                <a:off x="8038800" y="40312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 rot="14123400">
              <a:off x="7954200" y="37094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692360" y="4749840"/>
            <a:ext cx="2358720" cy="1141920"/>
            <a:chOff x="1692360" y="4749840"/>
            <a:chExt cx="2358720" cy="1141920"/>
          </a:xfrm>
        </p:grpSpPr>
        <p:grpSp>
          <p:nvGrpSpPr>
            <p:cNvPr id="572" name=""/>
            <p:cNvGrpSpPr/>
            <p:nvPr/>
          </p:nvGrpSpPr>
          <p:grpSpPr>
            <a:xfrm>
              <a:off x="1692360" y="4862520"/>
              <a:ext cx="1127880" cy="1029240"/>
              <a:chOff x="1692360" y="4862520"/>
              <a:chExt cx="1127880" cy="102924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1692360" y="4862520"/>
                <a:ext cx="1127880" cy="1029240"/>
                <a:chOff x="1692360" y="4862520"/>
                <a:chExt cx="1127880" cy="1029240"/>
              </a:xfrm>
            </p:grpSpPr>
            <p:sp>
              <p:nvSpPr>
                <p:cNvPr id="574" name=""/>
                <p:cNvSpPr/>
                <p:nvPr/>
              </p:nvSpPr>
              <p:spPr>
                <a:xfrm rot="17186400">
                  <a:off x="1774440" y="49780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17186400">
                  <a:off x="2194200" y="49932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 rot="17186400">
                <a:off x="1764000" y="50238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2768400" y="4749840"/>
              <a:ext cx="1241280" cy="1131840"/>
              <a:chOff x="2768400" y="4749840"/>
              <a:chExt cx="1241280" cy="113184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2768400" y="4749840"/>
                <a:ext cx="1241280" cy="1131840"/>
                <a:chOff x="2768400" y="4749840"/>
                <a:chExt cx="1241280" cy="1131840"/>
              </a:xfrm>
            </p:grpSpPr>
            <p:sp>
              <p:nvSpPr>
                <p:cNvPr id="579" name=""/>
                <p:cNvSpPr/>
                <p:nvPr/>
              </p:nvSpPr>
              <p:spPr>
                <a:xfrm rot="7297200">
                  <a:off x="3031200" y="4916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7297200">
                  <a:off x="2873160" y="50641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 rot="7297200">
                <a:off x="3512520" y="54298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 rot="17186400">
              <a:off x="3709080" y="51620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666880" y="3581280"/>
            <a:ext cx="878040" cy="917280"/>
            <a:chOff x="2666880" y="3581280"/>
            <a:chExt cx="878040" cy="917280"/>
          </a:xfrm>
        </p:grpSpPr>
        <p:sp>
          <p:nvSpPr>
            <p:cNvPr id="585" name=""/>
            <p:cNvSpPr/>
            <p:nvPr/>
          </p:nvSpPr>
          <p:spPr>
            <a:xfrm>
              <a:off x="2666880" y="3581280"/>
              <a:ext cx="838080" cy="797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86200" y="3940200"/>
              <a:ext cx="558720" cy="5583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5791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You’re my friend. I like …… 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55627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0547400">
            <a:off x="2971440" y="4495680"/>
            <a:ext cx="2084400" cy="73512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525780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10430400">
            <a:off x="4876560" y="2282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105520" y="2895480"/>
            <a:ext cx="685800" cy="1123920"/>
          </a:xfrm>
          <a:custGeom>
            <a:avLst/>
            <a:gdLst/>
            <a:ahLst/>
            <a:rect l="l" t="t" r="r" b="b"/>
            <a:pathLst>
              <a:path w="727" h="1284">
                <a:moveTo>
                  <a:pt x="467" y="1202"/>
                </a:moveTo>
                <a:cubicBezTo>
                  <a:pt x="455" y="1242"/>
                  <a:pt x="526" y="1236"/>
                  <a:pt x="495" y="1264"/>
                </a:cubicBezTo>
                <a:cubicBezTo>
                  <a:pt x="474" y="1283"/>
                  <a:pt x="451" y="1267"/>
                  <a:pt x="423" y="1264"/>
                </a:cubicBezTo>
                <a:cubicBezTo>
                  <a:pt x="392" y="1243"/>
                  <a:pt x="394" y="1284"/>
                  <a:pt x="373" y="1284"/>
                </a:cubicBezTo>
                <a:cubicBezTo>
                  <a:pt x="356" y="1229"/>
                  <a:pt x="428" y="1085"/>
                  <a:pt x="411" y="1018"/>
                </a:cubicBezTo>
                <a:cubicBezTo>
                  <a:pt x="409" y="960"/>
                  <a:pt x="387" y="933"/>
                  <a:pt x="373" y="914"/>
                </a:cubicBezTo>
                <a:cubicBezTo>
                  <a:pt x="353" y="889"/>
                  <a:pt x="309" y="884"/>
                  <a:pt x="291" y="870"/>
                </a:cubicBezTo>
                <a:cubicBezTo>
                  <a:pt x="273" y="856"/>
                  <a:pt x="274" y="845"/>
                  <a:pt x="263" y="828"/>
                </a:cubicBezTo>
                <a:cubicBezTo>
                  <a:pt x="252" y="811"/>
                  <a:pt x="246" y="796"/>
                  <a:pt x="223" y="766"/>
                </a:cubicBezTo>
                <a:cubicBezTo>
                  <a:pt x="169" y="729"/>
                  <a:pt x="163" y="697"/>
                  <a:pt x="125" y="646"/>
                </a:cubicBezTo>
                <a:cubicBezTo>
                  <a:pt x="110" y="605"/>
                  <a:pt x="20" y="598"/>
                  <a:pt x="5" y="557"/>
                </a:cubicBezTo>
                <a:cubicBezTo>
                  <a:pt x="8" y="529"/>
                  <a:pt x="0" y="496"/>
                  <a:pt x="15" y="472"/>
                </a:cubicBezTo>
                <a:cubicBezTo>
                  <a:pt x="26" y="455"/>
                  <a:pt x="71" y="453"/>
                  <a:pt x="71" y="453"/>
                </a:cubicBezTo>
                <a:cubicBezTo>
                  <a:pt x="81" y="456"/>
                  <a:pt x="95" y="453"/>
                  <a:pt x="100" y="462"/>
                </a:cubicBezTo>
                <a:cubicBezTo>
                  <a:pt x="113" y="485"/>
                  <a:pt x="116" y="572"/>
                  <a:pt x="137" y="604"/>
                </a:cubicBezTo>
                <a:cubicBezTo>
                  <a:pt x="155" y="631"/>
                  <a:pt x="186" y="661"/>
                  <a:pt x="213" y="679"/>
                </a:cubicBezTo>
                <a:cubicBezTo>
                  <a:pt x="219" y="689"/>
                  <a:pt x="224" y="700"/>
                  <a:pt x="232" y="708"/>
                </a:cubicBezTo>
                <a:cubicBezTo>
                  <a:pt x="240" y="716"/>
                  <a:pt x="253" y="718"/>
                  <a:pt x="260" y="727"/>
                </a:cubicBezTo>
                <a:cubicBezTo>
                  <a:pt x="288" y="761"/>
                  <a:pt x="262" y="774"/>
                  <a:pt x="317" y="793"/>
                </a:cubicBezTo>
                <a:cubicBezTo>
                  <a:pt x="301" y="768"/>
                  <a:pt x="286" y="742"/>
                  <a:pt x="270" y="717"/>
                </a:cubicBezTo>
                <a:cubicBezTo>
                  <a:pt x="264" y="707"/>
                  <a:pt x="251" y="689"/>
                  <a:pt x="251" y="689"/>
                </a:cubicBezTo>
                <a:cubicBezTo>
                  <a:pt x="231" y="594"/>
                  <a:pt x="260" y="677"/>
                  <a:pt x="213" y="623"/>
                </a:cubicBezTo>
                <a:cubicBezTo>
                  <a:pt x="198" y="606"/>
                  <a:pt x="175" y="566"/>
                  <a:pt x="175" y="566"/>
                </a:cubicBezTo>
                <a:cubicBezTo>
                  <a:pt x="165" y="535"/>
                  <a:pt x="148" y="511"/>
                  <a:pt x="137" y="481"/>
                </a:cubicBezTo>
                <a:cubicBezTo>
                  <a:pt x="128" y="418"/>
                  <a:pt x="132" y="401"/>
                  <a:pt x="90" y="358"/>
                </a:cubicBezTo>
                <a:cubicBezTo>
                  <a:pt x="84" y="338"/>
                  <a:pt x="67" y="302"/>
                  <a:pt x="90" y="283"/>
                </a:cubicBezTo>
                <a:cubicBezTo>
                  <a:pt x="100" y="275"/>
                  <a:pt x="115" y="289"/>
                  <a:pt x="128" y="292"/>
                </a:cubicBezTo>
                <a:cubicBezTo>
                  <a:pt x="141" y="347"/>
                  <a:pt x="161" y="399"/>
                  <a:pt x="175" y="453"/>
                </a:cubicBezTo>
                <a:cubicBezTo>
                  <a:pt x="182" y="481"/>
                  <a:pt x="176" y="515"/>
                  <a:pt x="194" y="538"/>
                </a:cubicBezTo>
                <a:cubicBezTo>
                  <a:pt x="209" y="558"/>
                  <a:pt x="233" y="568"/>
                  <a:pt x="251" y="585"/>
                </a:cubicBezTo>
                <a:cubicBezTo>
                  <a:pt x="272" y="555"/>
                  <a:pt x="280" y="558"/>
                  <a:pt x="260" y="519"/>
                </a:cubicBezTo>
                <a:cubicBezTo>
                  <a:pt x="250" y="499"/>
                  <a:pt x="222" y="462"/>
                  <a:pt x="222" y="462"/>
                </a:cubicBezTo>
                <a:cubicBezTo>
                  <a:pt x="210" y="424"/>
                  <a:pt x="176" y="357"/>
                  <a:pt x="161" y="328"/>
                </a:cubicBezTo>
                <a:cubicBezTo>
                  <a:pt x="155" y="316"/>
                  <a:pt x="166" y="292"/>
                  <a:pt x="156" y="283"/>
                </a:cubicBezTo>
                <a:cubicBezTo>
                  <a:pt x="142" y="239"/>
                  <a:pt x="114" y="204"/>
                  <a:pt x="100" y="160"/>
                </a:cubicBezTo>
                <a:cubicBezTo>
                  <a:pt x="91" y="127"/>
                  <a:pt x="80" y="103"/>
                  <a:pt x="81" y="84"/>
                </a:cubicBezTo>
                <a:cubicBezTo>
                  <a:pt x="80" y="66"/>
                  <a:pt x="89" y="51"/>
                  <a:pt x="95" y="50"/>
                </a:cubicBezTo>
                <a:cubicBezTo>
                  <a:pt x="97" y="40"/>
                  <a:pt x="116" y="65"/>
                  <a:pt x="118" y="75"/>
                </a:cubicBezTo>
                <a:cubicBezTo>
                  <a:pt x="123" y="100"/>
                  <a:pt x="120" y="127"/>
                  <a:pt x="128" y="151"/>
                </a:cubicBezTo>
                <a:cubicBezTo>
                  <a:pt x="133" y="166"/>
                  <a:pt x="147" y="176"/>
                  <a:pt x="156" y="188"/>
                </a:cubicBezTo>
                <a:cubicBezTo>
                  <a:pt x="182" y="264"/>
                  <a:pt x="168" y="374"/>
                  <a:pt x="241" y="424"/>
                </a:cubicBezTo>
                <a:cubicBezTo>
                  <a:pt x="268" y="324"/>
                  <a:pt x="266" y="232"/>
                  <a:pt x="194" y="160"/>
                </a:cubicBezTo>
                <a:cubicBezTo>
                  <a:pt x="177" y="108"/>
                  <a:pt x="180" y="106"/>
                  <a:pt x="232" y="94"/>
                </a:cubicBezTo>
                <a:cubicBezTo>
                  <a:pt x="269" y="148"/>
                  <a:pt x="239" y="95"/>
                  <a:pt x="260" y="188"/>
                </a:cubicBezTo>
                <a:cubicBezTo>
                  <a:pt x="264" y="208"/>
                  <a:pt x="275" y="225"/>
                  <a:pt x="279" y="245"/>
                </a:cubicBezTo>
                <a:cubicBezTo>
                  <a:pt x="282" y="261"/>
                  <a:pt x="285" y="276"/>
                  <a:pt x="288" y="292"/>
                </a:cubicBezTo>
                <a:cubicBezTo>
                  <a:pt x="295" y="474"/>
                  <a:pt x="293" y="524"/>
                  <a:pt x="326" y="660"/>
                </a:cubicBezTo>
                <a:cubicBezTo>
                  <a:pt x="341" y="550"/>
                  <a:pt x="355" y="488"/>
                  <a:pt x="365" y="392"/>
                </a:cubicBezTo>
                <a:cubicBezTo>
                  <a:pt x="364" y="325"/>
                  <a:pt x="365" y="312"/>
                  <a:pt x="365" y="284"/>
                </a:cubicBezTo>
                <a:cubicBezTo>
                  <a:pt x="372" y="256"/>
                  <a:pt x="400" y="249"/>
                  <a:pt x="409" y="224"/>
                </a:cubicBezTo>
                <a:cubicBezTo>
                  <a:pt x="412" y="199"/>
                  <a:pt x="419" y="163"/>
                  <a:pt x="421" y="132"/>
                </a:cubicBezTo>
                <a:cubicBezTo>
                  <a:pt x="417" y="102"/>
                  <a:pt x="381" y="64"/>
                  <a:pt x="385" y="42"/>
                </a:cubicBezTo>
                <a:cubicBezTo>
                  <a:pt x="391" y="23"/>
                  <a:pt x="422" y="3"/>
                  <a:pt x="443" y="2"/>
                </a:cubicBezTo>
                <a:cubicBezTo>
                  <a:pt x="464" y="1"/>
                  <a:pt x="507" y="0"/>
                  <a:pt x="509" y="38"/>
                </a:cubicBezTo>
                <a:cubicBezTo>
                  <a:pt x="511" y="76"/>
                  <a:pt x="485" y="33"/>
                  <a:pt x="469" y="86"/>
                </a:cubicBezTo>
                <a:cubicBezTo>
                  <a:pt x="453" y="139"/>
                  <a:pt x="422" y="256"/>
                  <a:pt x="411" y="358"/>
                </a:cubicBezTo>
                <a:cubicBezTo>
                  <a:pt x="372" y="484"/>
                  <a:pt x="395" y="504"/>
                  <a:pt x="402" y="698"/>
                </a:cubicBezTo>
                <a:cubicBezTo>
                  <a:pt x="415" y="751"/>
                  <a:pt x="418" y="736"/>
                  <a:pt x="429" y="676"/>
                </a:cubicBezTo>
                <a:cubicBezTo>
                  <a:pt x="440" y="616"/>
                  <a:pt x="458" y="408"/>
                  <a:pt x="468" y="339"/>
                </a:cubicBezTo>
                <a:cubicBezTo>
                  <a:pt x="470" y="313"/>
                  <a:pt x="481" y="289"/>
                  <a:pt x="487" y="264"/>
                </a:cubicBezTo>
                <a:cubicBezTo>
                  <a:pt x="492" y="242"/>
                  <a:pt x="486" y="218"/>
                  <a:pt x="496" y="198"/>
                </a:cubicBezTo>
                <a:cubicBezTo>
                  <a:pt x="500" y="190"/>
                  <a:pt x="550" y="158"/>
                  <a:pt x="562" y="151"/>
                </a:cubicBezTo>
                <a:cubicBezTo>
                  <a:pt x="588" y="202"/>
                  <a:pt x="584" y="224"/>
                  <a:pt x="543" y="264"/>
                </a:cubicBezTo>
                <a:cubicBezTo>
                  <a:pt x="518" y="371"/>
                  <a:pt x="533" y="481"/>
                  <a:pt x="496" y="585"/>
                </a:cubicBezTo>
                <a:cubicBezTo>
                  <a:pt x="499" y="620"/>
                  <a:pt x="493" y="657"/>
                  <a:pt x="506" y="689"/>
                </a:cubicBezTo>
                <a:cubicBezTo>
                  <a:pt x="510" y="700"/>
                  <a:pt x="520" y="671"/>
                  <a:pt x="525" y="660"/>
                </a:cubicBezTo>
                <a:cubicBezTo>
                  <a:pt x="530" y="648"/>
                  <a:pt x="531" y="635"/>
                  <a:pt x="534" y="623"/>
                </a:cubicBezTo>
                <a:cubicBezTo>
                  <a:pt x="541" y="547"/>
                  <a:pt x="534" y="470"/>
                  <a:pt x="591" y="415"/>
                </a:cubicBezTo>
                <a:cubicBezTo>
                  <a:pt x="611" y="310"/>
                  <a:pt x="570" y="340"/>
                  <a:pt x="591" y="282"/>
                </a:cubicBezTo>
                <a:cubicBezTo>
                  <a:pt x="594" y="260"/>
                  <a:pt x="628" y="204"/>
                  <a:pt x="628" y="226"/>
                </a:cubicBezTo>
                <a:cubicBezTo>
                  <a:pt x="627" y="226"/>
                  <a:pt x="687" y="203"/>
                  <a:pt x="701" y="214"/>
                </a:cubicBezTo>
                <a:cubicBezTo>
                  <a:pt x="715" y="225"/>
                  <a:pt x="727" y="263"/>
                  <a:pt x="713" y="292"/>
                </a:cubicBezTo>
                <a:cubicBezTo>
                  <a:pt x="699" y="321"/>
                  <a:pt x="638" y="357"/>
                  <a:pt x="619" y="387"/>
                </a:cubicBezTo>
                <a:cubicBezTo>
                  <a:pt x="616" y="416"/>
                  <a:pt x="605" y="443"/>
                  <a:pt x="600" y="472"/>
                </a:cubicBezTo>
                <a:cubicBezTo>
                  <a:pt x="606" y="557"/>
                  <a:pt x="630" y="717"/>
                  <a:pt x="543" y="774"/>
                </a:cubicBezTo>
                <a:cubicBezTo>
                  <a:pt x="568" y="843"/>
                  <a:pt x="532" y="773"/>
                  <a:pt x="581" y="783"/>
                </a:cubicBezTo>
                <a:cubicBezTo>
                  <a:pt x="592" y="785"/>
                  <a:pt x="594" y="802"/>
                  <a:pt x="600" y="812"/>
                </a:cubicBezTo>
                <a:cubicBezTo>
                  <a:pt x="597" y="828"/>
                  <a:pt x="599" y="845"/>
                  <a:pt x="591" y="859"/>
                </a:cubicBezTo>
                <a:cubicBezTo>
                  <a:pt x="585" y="869"/>
                  <a:pt x="414" y="864"/>
                  <a:pt x="469" y="932"/>
                </a:cubicBezTo>
                <a:cubicBezTo>
                  <a:pt x="456" y="987"/>
                  <a:pt x="472" y="1145"/>
                  <a:pt x="467" y="1202"/>
                </a:cubicBezTo>
                <a:close/>
              </a:path>
            </a:pathLst>
          </a:cu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10430400">
            <a:off x="3733560" y="2590560"/>
            <a:ext cx="1841400" cy="184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5"/>
          <a:stretch/>
        </p:blipFill>
        <p:spPr>
          <a:xfrm>
            <a:off x="76320" y="3505320"/>
            <a:ext cx="3105000" cy="220968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6"/>
          <a:stretch/>
        </p:blipFill>
        <p:spPr>
          <a:xfrm>
            <a:off x="4648320" y="2790720"/>
            <a:ext cx="3324240" cy="28479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7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8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9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10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11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12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3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4"/>
          <a:stretch/>
        </p:blipFill>
        <p:spPr>
          <a:xfrm>
            <a:off x="8229600" y="9907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15"/>
          <a:stretch/>
        </p:blipFill>
        <p:spPr>
          <a:xfrm>
            <a:off x="2590920" y="27432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16"/>
          <a:stretch/>
        </p:blipFill>
        <p:spPr>
          <a:xfrm>
            <a:off x="2057400" y="106668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17"/>
          <a:stretch/>
        </p:blipFill>
        <p:spPr>
          <a:xfrm>
            <a:off x="304920" y="2666880"/>
            <a:ext cx="7048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1371600" y="3809880"/>
            <a:ext cx="878040" cy="917280"/>
            <a:chOff x="1371600" y="3809880"/>
            <a:chExt cx="878040" cy="917280"/>
          </a:xfrm>
        </p:grpSpPr>
        <p:sp>
          <p:nvSpPr>
            <p:cNvPr id="612" name=""/>
            <p:cNvSpPr/>
            <p:nvPr/>
          </p:nvSpPr>
          <p:spPr>
            <a:xfrm>
              <a:off x="1371600" y="3809880"/>
              <a:ext cx="838080" cy="7977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690920" y="4168800"/>
              <a:ext cx="558720" cy="5583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3238560" cy="18288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0" y="5810400"/>
            <a:ext cx="8915400" cy="10476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 rot="10430400">
            <a:off x="609480" y="1523880"/>
            <a:ext cx="2286000" cy="217512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rot="10430400">
            <a:off x="151560" y="6858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8915400" cy="12096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 rot="10430400">
            <a:off x="5568480" y="1785960"/>
            <a:ext cx="2286000" cy="2176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0430400">
            <a:off x="6013080" y="914400"/>
            <a:ext cx="168264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7074000" y="3802680"/>
            <a:ext cx="1845360" cy="2120040"/>
            <a:chOff x="7074000" y="3802680"/>
            <a:chExt cx="1845360" cy="2120040"/>
          </a:xfrm>
        </p:grpSpPr>
        <p:grpSp>
          <p:nvGrpSpPr>
            <p:cNvPr id="622" name=""/>
            <p:cNvGrpSpPr/>
            <p:nvPr/>
          </p:nvGrpSpPr>
          <p:grpSpPr>
            <a:xfrm>
              <a:off x="7074000" y="4679640"/>
              <a:ext cx="1132560" cy="1243080"/>
              <a:chOff x="7074000" y="4679640"/>
              <a:chExt cx="1132560" cy="124308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7074000" y="4679640"/>
                <a:ext cx="1132560" cy="1243080"/>
                <a:chOff x="7074000" y="4679640"/>
                <a:chExt cx="1132560" cy="1243080"/>
              </a:xfrm>
            </p:grpSpPr>
            <p:sp>
              <p:nvSpPr>
                <p:cNvPr id="624" name=""/>
                <p:cNvSpPr/>
                <p:nvPr/>
              </p:nvSpPr>
              <p:spPr>
                <a:xfrm rot="14123400">
                  <a:off x="7221240" y="49525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rot="14123400">
                  <a:off x="7455600" y="478836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"/>
              <p:cNvSpPr/>
              <p:nvPr/>
            </p:nvSpPr>
            <p:spPr>
              <a:xfrm rot="14123400">
                <a:off x="7157160" y="528804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7860600" y="3807720"/>
              <a:ext cx="1058760" cy="1132920"/>
              <a:chOff x="7860600" y="3807720"/>
              <a:chExt cx="1058760" cy="1132920"/>
            </a:xfrm>
          </p:grpSpPr>
          <p:grpSp>
            <p:nvGrpSpPr>
              <p:cNvPr id="628" name=""/>
              <p:cNvGrpSpPr/>
              <p:nvPr/>
            </p:nvGrpSpPr>
            <p:grpSpPr>
              <a:xfrm>
                <a:off x="7860600" y="3807720"/>
                <a:ext cx="1037880" cy="1132920"/>
                <a:chOff x="7860600" y="3807720"/>
                <a:chExt cx="1037880" cy="1132920"/>
              </a:xfrm>
            </p:grpSpPr>
            <p:sp>
              <p:nvSpPr>
                <p:cNvPr id="629" name=""/>
                <p:cNvSpPr/>
                <p:nvPr/>
              </p:nvSpPr>
              <p:spPr>
                <a:xfrm rot="4234800">
                  <a:off x="7963920" y="393624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rot="4234800">
                  <a:off x="7937280" y="430524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 rot="4234800">
                <a:off x="8572320" y="418392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rot="14123400">
              <a:off x="8487720" y="386208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929040" y="309096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0430400">
            <a:off x="2514240" y="1023840"/>
            <a:ext cx="2286000" cy="2176560"/>
          </a:xfrm>
          <a:prstGeom prst="ellipse">
            <a:avLst/>
          </a:prstGeom>
          <a:gradFill rotWithShape="0">
            <a:gsLst>
              <a:gs pos="0">
                <a:srgbClr val="e4f2f4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4267080" y="4187880"/>
            <a:ext cx="877680" cy="993240"/>
            <a:chOff x="4267080" y="4187880"/>
            <a:chExt cx="877680" cy="993240"/>
          </a:xfrm>
        </p:grpSpPr>
        <p:grpSp>
          <p:nvGrpSpPr>
            <p:cNvPr id="636" name=""/>
            <p:cNvGrpSpPr/>
            <p:nvPr/>
          </p:nvGrpSpPr>
          <p:grpSpPr>
            <a:xfrm>
              <a:off x="4267080" y="4263840"/>
              <a:ext cx="877680" cy="917280"/>
              <a:chOff x="4267080" y="4263840"/>
              <a:chExt cx="877680" cy="917280"/>
            </a:xfrm>
          </p:grpSpPr>
          <p:sp>
            <p:nvSpPr>
              <p:cNvPr id="637" name=""/>
              <p:cNvSpPr/>
              <p:nvPr/>
            </p:nvSpPr>
            <p:spPr>
              <a:xfrm>
                <a:off x="4267080" y="4263840"/>
                <a:ext cx="837720" cy="7977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586400" y="4622760"/>
                <a:ext cx="558360" cy="5583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4647960" y="4187880"/>
              <a:ext cx="304920" cy="30456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 rot="10430400">
            <a:off x="4494960" y="1506600"/>
            <a:ext cx="1683000" cy="168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10430400">
            <a:off x="7391160" y="1752120"/>
            <a:ext cx="1682640" cy="168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5791320"/>
            <a:ext cx="899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It’s a starfish. We like ....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548480" y="562284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>
            <a:hlinkClick r:id="" action="ppaction://hlinkshowjump?jump=nextslide"/>
          </p:cNvPr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102600 w 914400"/>
              <a:gd name="textAreaRight" fmla="*/ 811800 w 914400"/>
              <a:gd name="textAreaTop" fmla="*/ 258840 h 609840"/>
              <a:gd name="textAreaBottom" fmla="*/ 35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9169"/>
                </a:moveTo>
                <a:lnTo>
                  <a:pt x="5550" y="9169"/>
                </a:lnTo>
                <a:lnTo>
                  <a:pt x="5550" y="0"/>
                </a:lnTo>
                <a:lnTo>
                  <a:pt x="21600" y="10800"/>
                </a:lnTo>
                <a:lnTo>
                  <a:pt x="5550" y="21600"/>
                </a:lnTo>
                <a:lnTo>
                  <a:pt x="5550" y="12431"/>
                </a:lnTo>
                <a:lnTo>
                  <a:pt x="0" y="12431"/>
                </a:lnTo>
                <a:lnTo>
                  <a:pt x="2424" y="10800"/>
                </a:lnTo>
                <a:lnTo>
                  <a:pt x="0" y="91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292560" y="3338640"/>
            <a:ext cx="2358720" cy="1141920"/>
            <a:chOff x="3292560" y="3338640"/>
            <a:chExt cx="2358720" cy="1141920"/>
          </a:xfrm>
        </p:grpSpPr>
        <p:grpSp>
          <p:nvGrpSpPr>
            <p:cNvPr id="646" name=""/>
            <p:cNvGrpSpPr/>
            <p:nvPr/>
          </p:nvGrpSpPr>
          <p:grpSpPr>
            <a:xfrm>
              <a:off x="3292560" y="3451320"/>
              <a:ext cx="1127880" cy="1029240"/>
              <a:chOff x="3292560" y="3451320"/>
              <a:chExt cx="1127880" cy="10292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3292560" y="3451320"/>
                <a:ext cx="1127880" cy="1029240"/>
                <a:chOff x="3292560" y="3451320"/>
                <a:chExt cx="1127880" cy="1029240"/>
              </a:xfrm>
            </p:grpSpPr>
            <p:sp>
              <p:nvSpPr>
                <p:cNvPr id="648" name=""/>
                <p:cNvSpPr/>
                <p:nvPr/>
              </p:nvSpPr>
              <p:spPr>
                <a:xfrm rot="17186400">
                  <a:off x="3374640" y="356688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17186400">
                  <a:off x="3794400" y="358200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0" name=""/>
              <p:cNvSpPr/>
              <p:nvPr/>
            </p:nvSpPr>
            <p:spPr>
              <a:xfrm rot="17186400">
                <a:off x="3364200" y="361260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4368600" y="3338640"/>
              <a:ext cx="1241280" cy="1131840"/>
              <a:chOff x="4368600" y="3338640"/>
              <a:chExt cx="1241280" cy="113184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4368600" y="3338640"/>
                <a:ext cx="1241280" cy="1131840"/>
                <a:chOff x="4368600" y="3338640"/>
                <a:chExt cx="1241280" cy="1131840"/>
              </a:xfrm>
            </p:grpSpPr>
            <p:sp>
              <p:nvSpPr>
                <p:cNvPr id="653" name=""/>
                <p:cNvSpPr/>
                <p:nvPr/>
              </p:nvSpPr>
              <p:spPr>
                <a:xfrm rot="7297200">
                  <a:off x="4631400" y="3505320"/>
                  <a:ext cx="837720" cy="79776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rot="7297200">
                  <a:off x="4473360" y="3652920"/>
                  <a:ext cx="558360" cy="558360"/>
                </a:xfrm>
                <a:prstGeom prst="ellipse">
                  <a:avLst/>
                </a:prstGeom>
                <a:solidFill>
                  <a:srgbClr val="d6ec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 rot="7297200">
                <a:off x="5112720" y="4018680"/>
                <a:ext cx="304920" cy="304560"/>
              </a:xfrm>
              <a:prstGeom prst="ellipse">
                <a:avLst/>
              </a:prstGeom>
              <a:solidFill>
                <a:srgbClr val="d6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 rot="17186400">
              <a:off x="5309280" y="3750840"/>
              <a:ext cx="304920" cy="304920"/>
            </a:xfrm>
            <a:prstGeom prst="ellipse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3886200" y="5257800"/>
            <a:ext cx="1252440" cy="56664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738920" y="880920"/>
            <a:ext cx="1252800" cy="567000"/>
          </a:xfrm>
          <a:custGeom>
            <a:avLst/>
            <a:gdLst/>
            <a:ahLst/>
            <a:rect l="l" t="t" r="r" b="b"/>
            <a:pathLst>
              <a:path w="1311" h="567">
                <a:moveTo>
                  <a:pt x="9" y="375"/>
                </a:moveTo>
                <a:cubicBezTo>
                  <a:pt x="18" y="361"/>
                  <a:pt x="153" y="325"/>
                  <a:pt x="228" y="288"/>
                </a:cubicBezTo>
                <a:cubicBezTo>
                  <a:pt x="303" y="251"/>
                  <a:pt x="330" y="156"/>
                  <a:pt x="456" y="154"/>
                </a:cubicBezTo>
                <a:cubicBezTo>
                  <a:pt x="484" y="121"/>
                  <a:pt x="406" y="113"/>
                  <a:pt x="396" y="87"/>
                </a:cubicBezTo>
                <a:cubicBezTo>
                  <a:pt x="386" y="61"/>
                  <a:pt x="373" y="6"/>
                  <a:pt x="396" y="0"/>
                </a:cubicBezTo>
                <a:cubicBezTo>
                  <a:pt x="426" y="39"/>
                  <a:pt x="487" y="39"/>
                  <a:pt x="534" y="51"/>
                </a:cubicBezTo>
                <a:cubicBezTo>
                  <a:pt x="581" y="63"/>
                  <a:pt x="618" y="77"/>
                  <a:pt x="681" y="72"/>
                </a:cubicBezTo>
                <a:cubicBezTo>
                  <a:pt x="744" y="67"/>
                  <a:pt x="827" y="27"/>
                  <a:pt x="910" y="18"/>
                </a:cubicBezTo>
                <a:cubicBezTo>
                  <a:pt x="993" y="9"/>
                  <a:pt x="1098" y="45"/>
                  <a:pt x="1182" y="18"/>
                </a:cubicBezTo>
                <a:cubicBezTo>
                  <a:pt x="1182" y="117"/>
                  <a:pt x="902" y="89"/>
                  <a:pt x="876" y="108"/>
                </a:cubicBezTo>
                <a:cubicBezTo>
                  <a:pt x="891" y="138"/>
                  <a:pt x="1161" y="225"/>
                  <a:pt x="1273" y="199"/>
                </a:cubicBezTo>
                <a:cubicBezTo>
                  <a:pt x="1311" y="229"/>
                  <a:pt x="1220" y="287"/>
                  <a:pt x="1137" y="290"/>
                </a:cubicBezTo>
                <a:cubicBezTo>
                  <a:pt x="882" y="303"/>
                  <a:pt x="795" y="186"/>
                  <a:pt x="747" y="234"/>
                </a:cubicBezTo>
                <a:cubicBezTo>
                  <a:pt x="711" y="288"/>
                  <a:pt x="729" y="480"/>
                  <a:pt x="738" y="567"/>
                </a:cubicBezTo>
                <a:cubicBezTo>
                  <a:pt x="555" y="519"/>
                  <a:pt x="673" y="318"/>
                  <a:pt x="579" y="285"/>
                </a:cubicBezTo>
                <a:cubicBezTo>
                  <a:pt x="485" y="252"/>
                  <a:pt x="269" y="354"/>
                  <a:pt x="174" y="369"/>
                </a:cubicBezTo>
                <a:cubicBezTo>
                  <a:pt x="79" y="384"/>
                  <a:pt x="0" y="396"/>
                  <a:pt x="9" y="375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5"/>
          <a:stretch/>
        </p:blipFill>
        <p:spPr>
          <a:xfrm>
            <a:off x="4724280" y="3733920"/>
            <a:ext cx="2819520" cy="213336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6"/>
          <a:stretch/>
        </p:blipFill>
        <p:spPr>
          <a:xfrm>
            <a:off x="500040" y="1295280"/>
            <a:ext cx="1023840" cy="58608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7"/>
          <a:stretch/>
        </p:blipFill>
        <p:spPr>
          <a:xfrm>
            <a:off x="2895480" y="1752480"/>
            <a:ext cx="1414440" cy="79848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8"/>
          <a:stretch/>
        </p:blipFill>
        <p:spPr>
          <a:xfrm>
            <a:off x="1255680" y="2457360"/>
            <a:ext cx="1030320" cy="59076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9"/>
          <a:stretch/>
        </p:blipFill>
        <p:spPr>
          <a:xfrm>
            <a:off x="6248520" y="1371600"/>
            <a:ext cx="1328760" cy="7254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10"/>
          <a:stretch/>
        </p:blipFill>
        <p:spPr>
          <a:xfrm>
            <a:off x="4648320" y="1981080"/>
            <a:ext cx="1334880" cy="72576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11"/>
          <a:stretch/>
        </p:blipFill>
        <p:spPr>
          <a:xfrm>
            <a:off x="7924680" y="2362320"/>
            <a:ext cx="725760" cy="58572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12"/>
          <a:stretch/>
        </p:blipFill>
        <p:spPr>
          <a:xfrm>
            <a:off x="5745240" y="2697120"/>
            <a:ext cx="1798560" cy="7318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13"/>
          <a:stretch/>
        </p:blipFill>
        <p:spPr>
          <a:xfrm>
            <a:off x="7848720" y="4648320"/>
            <a:ext cx="1171440" cy="20574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14"/>
          <a:stretch/>
        </p:blipFill>
        <p:spPr>
          <a:xfrm>
            <a:off x="47520" y="3809880"/>
            <a:ext cx="1171800" cy="205740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15"/>
          <a:stretch/>
        </p:blipFill>
        <p:spPr>
          <a:xfrm>
            <a:off x="228600" y="236232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16"/>
          <a:stretch/>
        </p:blipFill>
        <p:spPr>
          <a:xfrm>
            <a:off x="2362320" y="27432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17"/>
          <a:stretch/>
        </p:blipFill>
        <p:spPr>
          <a:xfrm>
            <a:off x="1905120" y="91440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18"/>
          <a:stretch/>
        </p:blipFill>
        <p:spPr>
          <a:xfrm>
            <a:off x="8210520" y="1066680"/>
            <a:ext cx="704880" cy="11430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19"/>
          <a:stretch/>
        </p:blipFill>
        <p:spPr>
          <a:xfrm>
            <a:off x="4876920" y="2971800"/>
            <a:ext cx="704880" cy="11430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 rot="4723800">
            <a:off x="3363840" y="3771360"/>
            <a:ext cx="2084400" cy="735120"/>
          </a:xfrm>
          <a:custGeom>
            <a:avLst/>
            <a:gdLst/>
            <a:ahLst/>
            <a:rect l="l" t="t" r="r" b="b"/>
            <a:pathLst>
              <a:path w="1210" h="555">
                <a:moveTo>
                  <a:pt x="0" y="316"/>
                </a:moveTo>
                <a:cubicBezTo>
                  <a:pt x="93" y="159"/>
                  <a:pt x="186" y="0"/>
                  <a:pt x="293" y="2"/>
                </a:cubicBezTo>
                <a:cubicBezTo>
                  <a:pt x="401" y="4"/>
                  <a:pt x="530" y="267"/>
                  <a:pt x="647" y="324"/>
                </a:cubicBezTo>
                <a:cubicBezTo>
                  <a:pt x="764" y="381"/>
                  <a:pt x="941" y="370"/>
                  <a:pt x="995" y="346"/>
                </a:cubicBezTo>
                <a:cubicBezTo>
                  <a:pt x="1051" y="311"/>
                  <a:pt x="931" y="178"/>
                  <a:pt x="967" y="178"/>
                </a:cubicBezTo>
                <a:cubicBezTo>
                  <a:pt x="1004" y="179"/>
                  <a:pt x="1193" y="287"/>
                  <a:pt x="1210" y="349"/>
                </a:cubicBezTo>
                <a:cubicBezTo>
                  <a:pt x="1136" y="381"/>
                  <a:pt x="1103" y="539"/>
                  <a:pt x="1071" y="548"/>
                </a:cubicBezTo>
                <a:cubicBezTo>
                  <a:pt x="1037" y="555"/>
                  <a:pt x="1053" y="466"/>
                  <a:pt x="1009" y="395"/>
                </a:cubicBezTo>
                <a:cubicBezTo>
                  <a:pt x="946" y="401"/>
                  <a:pt x="739" y="424"/>
                  <a:pt x="630" y="380"/>
                </a:cubicBezTo>
                <a:cubicBezTo>
                  <a:pt x="511" y="327"/>
                  <a:pt x="386" y="74"/>
                  <a:pt x="297" y="75"/>
                </a:cubicBezTo>
                <a:cubicBezTo>
                  <a:pt x="208" y="76"/>
                  <a:pt x="133" y="346"/>
                  <a:pt x="97" y="384"/>
                </a:cubicBezTo>
                <a:lnTo>
                  <a:pt x="84" y="300"/>
                </a:lnTo>
                <a:cubicBezTo>
                  <a:pt x="84" y="300"/>
                  <a:pt x="0" y="316"/>
                  <a:pt x="0" y="316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10430400">
            <a:off x="1904760" y="914040"/>
            <a:ext cx="1149120" cy="114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6ecee">
                  <a:alpha val="25098"/>
                </a:srgbClr>
              </a:gs>
              <a:gs pos="100000">
                <a:srgbClr val="ffffff"/>
              </a:gs>
            </a:gsLst>
            <a:lin ang="192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6:52:51Z</dcterms:created>
  <dc:creator>Gabi Sandru</dc:creator>
  <dc:description/>
  <dc:language>en-US</dc:language>
  <cp:lastModifiedBy>Gabi Sandru</cp:lastModifiedBy>
  <dcterms:modified xsi:type="dcterms:W3CDTF">2009-11-22T16:56:52Z</dcterms:modified>
  <cp:revision>2</cp:revision>
  <dc:subject/>
  <dc:title>Slide 1</dc:title>
</cp:coreProperties>
</file>